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A57-7D83-4EC7-AC9C-D643D086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263-4F94-4523-8F51-E9CAAE7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E5D-3062-49FC-B88D-DB434365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0DA-39D6-4787-BB6D-60BE664A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B419-43F4-456A-925A-BCFCCD40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3D90-B8E3-4601-9C6E-C0EE2A21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6018-E527-4282-B6CD-8D4E1B34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BCFC-14B1-4F08-9672-618BBC2F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9AE3-23B6-4051-9B56-84C3A965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4A66-A52D-4B66-AD21-32E8BCF9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D9D-F73D-4D28-885B-9940383A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9D9-8B1B-425D-AD88-412B55BF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DE30-F73A-4DFB-962C-B39C6894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58D4-C133-4903-A1BB-A33548BC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E007-3279-4098-8B40-C345B8B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0EE6-8CAE-450B-AD88-A7C22BB0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FD5B-DDE9-4348-80C0-02D9D759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7FE-6925-46B1-99DB-F975C17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712-309E-4907-B455-703612D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1EF-500F-43DC-9BCC-F4813687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552-25A7-4F89-9D95-4ED770B2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279-22E9-43CB-AACE-7F68BD6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55D-834A-40C4-B0C9-CC4095E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245-5793-4F34-B54C-83426C5A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98E-69B8-4D70-9890-CBC2CD5ECF4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39C-5F02-4A0E-BED0-60FFF7D6CA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areer.indstate.ed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20574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Indiana State Universit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4273560"/>
            <a:ext cx="633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Career Center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335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Times New Roman"/>
              </a:rPr>
              <a:t>Keys For Succes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enior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nd placement Orientation ses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gister with placement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come aware of networking opportun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nd career fairs and campus intervie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to be the most marketable candid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Tips For Succes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6002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alk to the Pro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2860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Utilize Electiv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80988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Go Get Experien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87692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Build a NETWOR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6386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Read/Resear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14479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ake the Grad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35268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Commit to Succeed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5146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k with Confiden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reer Center Home P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career.indstate.edu/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Can The Career Center Help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er Plan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riential Lear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ment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er Center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er Center Home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rkshops and Special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Career Planning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 Assess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lf Directed Search or S.D.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earch Maj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eer Center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earching Career Op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eer Center Website (links availabl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umes/Business letters/Networking Sk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Experiential Learning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areer Related Job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olunteer Opportuniti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udent Worker Posi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xternships (job shadowing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Placement Service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areer Fai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mployee Referr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n-Campus interview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dividual Consult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Career Center Librar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urrent Job Listing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Valuable Information on Employ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areer Planning book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Resourceful Staff always availa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reshman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Register with Student Employment Progra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Attend job fair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Use electives to explore variety of interes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eet Faculty, Advisors, and Administrator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ake advantage of activities and organization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areer and Life Planning 135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Utilize summer jobs to gain experienc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ophomore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tay involved with Student Employmen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Research internship, co-op, or externship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dentify interests, strengths, skills and abilitie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Narrow down choices for major and min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velop short-term and long-term goal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Junior Ye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inue to develop professional sk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earch desirable career fiel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btain co-op or internship exper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ider graduate school: begin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busy with career center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09:38Z</dcterms:created>
  <dc:creator>Tyrome Sessom</dc:creator>
  <dc:description/>
  <dc:language>en-US</dc:language>
  <cp:lastModifiedBy>Tyrone Sessom</cp:lastModifiedBy>
  <dcterms:modified xsi:type="dcterms:W3CDTF">2003-05-21T22:20:18Z</dcterms:modified>
  <cp:revision>19</cp:revision>
  <dc:subject/>
  <dc:title>Indiana State University</dc:title>
</cp:coreProperties>
</file>