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F97-B47E-470B-9017-09FB4E19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DAA-1ACB-45B2-9232-E0144392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0AA-3990-4C84-8357-90C97A3B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896-E067-43FC-B8F3-ACD60234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80E-6531-4860-BD2C-61070E4F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A8D8-2CAC-4874-B97E-6965AE8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D11A-B5B8-4FBA-94F3-128DF790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F2B9-5C07-41CF-A19F-646B9065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A686-45CB-48DD-BBB6-A644DC67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2F77-DB14-4F7E-AB02-C6B3AF17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B886-C606-4417-B89B-6CFAD97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5B1-6F1B-472D-8111-C128CEEE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593E-4CFD-4B7D-81F1-FEF130CF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C145-643A-45EB-BDB5-936C5D74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E6C7-70AD-4CEF-8663-DCDAF40D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E713-564D-4059-BDC6-83263144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0348-5B6E-4983-8C47-76211878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32E-07B3-4019-A656-ED808C55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6DD-4BF0-4311-8AFD-3923E2DA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5A2-5ADB-4589-960C-E0D2AA9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51D-0765-4EEE-9DCF-27D588EA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129-D0A1-41A5-8349-DF5B38F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49F-73EB-4DAB-9408-0C823F96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DD6-ED4C-4C41-A524-99DB66DB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BC71-E75E-4A15-A3E1-B342C40735D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4345-AE50-4C19-AC21-4047F47644D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areer.indstate.ed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20574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Indiana State Universit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4273560"/>
            <a:ext cx="633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Career Center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3352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Times New Roman"/>
              </a:rPr>
              <a:t>Keys For Succes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Senior Ye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nd placement Orientation sess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gister with placement serv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come aware of networking opportun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nd career fairs and campus intervie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to be the most marketable candid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Tips For Succes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6002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alk to the Pro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22860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Utilize Electiv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80988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Go Get Experien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87692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Build a NETWORK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56386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Read/Resear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14479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ake the Grad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35268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Commit to Succeed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51460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lk with Confiden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reer Center Home P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career.indstate.edu/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Can The Career Center Help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er Plan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riential Lear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ment Serv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er Center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er Center Home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orkshops and Special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Career Planning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 Assess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lf Directed Search or S.D.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earch Maj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eer Center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earching Career Op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eer Center Website (links availabl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umes/Business letters/Networking Sk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Experiential Learning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areer Related Job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olunteer Opportuniti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tudent Worker Posi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xternships (job shadowing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Placement Service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areer Fai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mployee Referr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n-Campus interview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dividual Consulta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Career Center Librar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urrent Job Listing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Valuable Information on Employer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areer Planning book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Resourceful Staff always availa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reshman Ye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Register with Student Employment Progra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Attend job fair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Use electives to explore variety of interes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eet Faculty, Advisors, and Administrator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ake advantage of activities and organization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areer and Life Planning 135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Utilize summer jobs to gain experience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Sophomore Ye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tay involved with Student Employmen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Research internship, co-op, or externship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dentify interests, strengths, skills and abilitie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Narrow down choices for major and mino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velop short-term and long-term goal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Junior Ye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inue to develop professional sk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earch desirable career fiel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btain co-op or internship experi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ider graduate school: begin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busy with career center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09:38Z</dcterms:created>
  <dc:creator>Tyrome Sessom</dc:creator>
  <dc:description/>
  <dc:language>en-US</dc:language>
  <cp:lastModifiedBy>Tyrone Sessom</cp:lastModifiedBy>
  <dcterms:modified xsi:type="dcterms:W3CDTF">2003-05-21T22:20:18Z</dcterms:modified>
  <cp:revision>19</cp:revision>
  <dc:subject/>
  <dc:title>Indiana State University</dc:title>
</cp:coreProperties>
</file>