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769-7AD2-4EB6-8600-EB66DBF3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1D7-2AD2-4644-B2C5-6F4015F3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0EB-4AFF-428C-8521-FBAA392C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E76-E86F-40C4-B701-6C13CF8A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F7D0-846B-42B7-AF40-599F141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1B5-0B49-4C8F-AA06-D424371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D126-F823-4AB8-BBCA-67089DCE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776-C0EA-4664-A985-8CB8D49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436E-BF55-469C-9B91-A1C74AC6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B43E-F81F-4BF7-9FE8-101FA7C8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24A-8947-44FE-88C4-E0A4F873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32A-FE17-4736-ADED-2A472CD7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3DCB-A6A3-4732-B1A5-2D77735C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A018-2ACE-44B5-ABDD-802CD5B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2108-A797-40DA-88A0-E1A3D857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D405-0550-4801-A7E4-E76D6404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DF60-B09B-4385-8D59-74E7B133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D15-F254-450B-8F95-1CDA775C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ECD-508E-415B-BD6B-E04A6F6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98F-329E-46C0-980E-C1B3645E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B32-C23D-4E7E-AD11-FAAF6A6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92C-06C9-4A0A-A269-9E2C2FB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66F-B809-40B1-A393-5999B9C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019-E2AF-4D9D-BD29-4E80076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4CEE-5A95-45C0-9DBC-902ABB42D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20F-D09B-4D00-B81C-4E72B1B75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Times New Roman"/>
              </a:rPr>
              <a:t>The Curriculum Vitae</a:t>
            </a:r>
            <a:endParaRPr b="0" lang="en-US" sz="5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rone Sess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ystifying The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precise definitions or universal acknowledged distinctions, the terms resume and CV, the abbreviation of curriculum vitae and vita have been subject to personal opinions, biases, and esoteric interpretation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~Anthony,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Resu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me is a document that summarizes qualifications, education, experience, skills, and other items relative to your obj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resumes include nonacademic pursuits, such as civic or community activities, and hobbies/inter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V is a special type of resume traditionally used in the academic community.  Earned degrees, teaching and research experience, publications, presentations and relative activities are featu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V is an academic version of a Re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ilar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vant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 is to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V is to Acad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~Refer to Hando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06960" y="3886200"/>
            <a:ext cx="3137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ilding A Good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Font Size (Tim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r and 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ss 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er Quality Pr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ction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n’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Illegal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i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bbrev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Fonts/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ep in Mind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not you autobiography—keep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employers what they want to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long paragraphs or sen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simple and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 must be 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USE TEMPLATE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rting O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tarters, don’t worry about the length of the CV or the appearance.  At this point, simply get your story down on pa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ting comes later (That’s my job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8:25:56Z</dcterms:created>
  <dc:creator>Tyrone Sessom</dc:creator>
  <dc:description/>
  <dc:language>en-US</dc:language>
  <cp:lastModifiedBy>Tyrone Sessom</cp:lastModifiedBy>
  <dcterms:modified xsi:type="dcterms:W3CDTF">2003-05-30T21:28:38Z</dcterms:modified>
  <cp:revision>5</cp:revision>
  <dc:subject/>
  <dc:title>The Curriculum Vitae</dc:title>
</cp:coreProperties>
</file>