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936-A639-4CB5-AE33-65E8906B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EB1-5813-44BA-A1D4-B2CD3BB4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0D2-1AE4-485F-82FC-3C46DE5B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F05-C0A3-47BB-A5C5-79E034EF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CB89-0C3B-4A2E-AE40-18BC3819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2353-9745-4626-8F48-CD04F5E6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56B7-CAD2-4443-99B5-3222E3B4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8315-79DE-4778-B84F-2C0C0509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0376-95EF-4C1B-83D6-D95F3698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92AC-194D-493E-9FDC-7B7E190F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865D-3BF3-481C-B2A2-304394B3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0F6A-B10F-465A-AF3D-FB07061E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9122-5C93-49F9-998E-03BE5AD7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03C8-C310-477C-B7CB-F09205D7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BB74-DBDB-4BE5-9DE7-5157494E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2FC1-8EC2-4264-B9B7-8B76E3A0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40FD-E1AF-4727-A1B6-595318A6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75E-9132-40E2-8FAA-0A771882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E7C-9DE3-41B6-A50C-6A646C0F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BD6-154B-45D9-96B8-10A7693F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AFE-2179-4232-A8B9-66DB39B0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FCE-F910-4125-9ECA-18D3FEC2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C9B-539B-483B-AEA5-29C45C65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83E-C962-4D41-9244-12426E54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C4C0-91BA-4BB6-A157-2631F6000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0B82-5C32-4FCA-8193-A84DF795D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Times New Roman"/>
              </a:rPr>
              <a:t>The Curriculum Vitae</a:t>
            </a:r>
            <a:endParaRPr b="0" lang="en-US" sz="5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rone Sess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ystifying The CV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out precise definitions or universal acknowledged distinctions, the terms resume and CV, the abbreviation of curriculum vitae and vita have been subject to personal opinions, biases, and esoteric interpretation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~Anthony, R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Resum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sume is a document that summarizes qualifications, education, experience, skills, and other items relative to your objec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 resumes include nonacademic pursuits, such as civic or community activities, and hobbies/intere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CV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V is a special type of resume traditionally used in the academic community.  Earned degrees, teaching and research experience, publications, presentations and relative activities are featu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V is an academic version of a Res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milar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vant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238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 is to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V is to Acad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~Refer to Handou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06960" y="3886200"/>
            <a:ext cx="3137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ilding A Good CV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 Font Size (Tim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r and For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to Sc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ss 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er Quality Pr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ction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n’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Illegal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Pi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bbrev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Fonts/Col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te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ep in Mind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not you autobiography—keep f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l employers what they want to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use long paragraphs or sen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simple and pl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t must be consis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USE TEMPLATES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rting O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starters, don’t worry about the length of the CV or the appearance.  At this point, simply get your story down on pap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ting comes later (That’s my job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18:25:56Z</dcterms:created>
  <dc:creator>Tyrone Sessom</dc:creator>
  <dc:description/>
  <dc:language>en-US</dc:language>
  <cp:lastModifiedBy>Tyrone Sessom</cp:lastModifiedBy>
  <dcterms:modified xsi:type="dcterms:W3CDTF">2003-05-30T21:28:38Z</dcterms:modified>
  <cp:revision>5</cp:revision>
  <dc:subject/>
  <dc:title>The Curriculum Vitae</dc:title>
</cp:coreProperties>
</file>