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28C-D446-4A1E-908A-B7D7B47B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F3C-C577-4680-8F71-9DAC52B8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94F-6719-42E0-A345-0878E82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B93-25BE-4607-BF06-84E7C87D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EDD-503C-4B7F-BF86-6EAE78EF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09A5-589D-4ADB-9E6E-D85DC110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3161-3205-4827-88E0-75A7C89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2281-81E1-4EF7-B589-2AC675A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71D-0FB8-4FBD-8834-3231F9BB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27C-0946-4620-82F2-3ECEF06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D7B0-2FE8-4577-9B68-EE78090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F08-3DE3-440F-A5EE-418CAD1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E9E-D31B-4EBA-ADA6-2B86ED51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E14-08D7-4B29-80F3-B0835B4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20AD-F684-4168-9966-6B9290E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3D5A-1CEA-4003-A79E-BDE8B921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03B-7455-4B32-A15E-4C3280BF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1B4-6295-43A3-8E92-81D082D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D2B-A59B-46B6-95DF-F2FF400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679-AE25-4763-A69D-05DD415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FC0-B5C6-40B5-AA96-31AD1556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E5B-C0CF-4A4A-BE6A-DC7BAF4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E25-C10A-48C2-8F4F-D80CC9C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550-4682-47B3-AE51-D1B9588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F0E-0DE2-4B1B-89A7-7C33A4E69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927-BA0E-4EDF-BFA0-A444300DAB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areer.indstate.ed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me Wr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581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rone Se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ing 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sume is a document used to present your education, experience and qualifications. There are different styles, but the basic nature and purpose of the information are the s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ty_present2" descr="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Resume i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dvertisement of you. It informs employers of the education and talents available from a candidate, and should generate interest and action from the employ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all good advertisements, your resume should communicate essential information within secon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ésumé's single most important function is to win an interview for the candidat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Good Resume Will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you the intervie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pare you mentally for making a strong 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 the interview in your fav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ind the interviewer of your bes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stify the hiring dec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 your Aud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s in any writing, you must know your audience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is important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are they looking for?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skills are required?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ggressive or conservative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y_desk3" descr=""/>
          <p:cNvPicPr/>
          <p:nvPr/>
        </p:nvPicPr>
        <p:blipFill>
          <a:blip r:embed="rId1"/>
          <a:stretch/>
        </p:blipFill>
        <p:spPr>
          <a:xfrm>
            <a:off x="1182600" y="2646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 ideal candidate profile would include the following skills and attribute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acquire new technical skills easil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Experience working in team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persuade other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Creative problem solving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Demonstrated leadership aptitu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trong work ethic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acquire foreign languag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mbition and reliabilit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Incl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2286000"/>
          <a:ext cx="7772400" cy="3316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s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-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xperienc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room Projec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broa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ar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tio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s and Award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Servic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guag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ology Experienc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rom The Pro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fold your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 away from too man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it to on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on separat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abbre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check your doubl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lear and con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unctional contac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yourself before you sell anything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areer Ce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example resumes to help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ed materials to guide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nks o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a New Website that will help you with all your professional nee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career.indstate.ed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6:29:16Z</dcterms:created>
  <dc:creator>Tyrone Sessom</dc:creator>
  <dc:description/>
  <dc:language>en-US</dc:language>
  <cp:lastModifiedBy>Tyrone Sessom</cp:lastModifiedBy>
  <dcterms:modified xsi:type="dcterms:W3CDTF">2003-05-23T17:18:27Z</dcterms:modified>
  <cp:revision>8</cp:revision>
  <dc:subject/>
  <dc:title>Resume Writing</dc:title>
</cp:coreProperties>
</file>