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8F3C-DB07-49E2-BF74-ED9F2CA59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CA7D-F2E4-4455-BAD8-F2BAD1C7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F9DF-02D5-4AE3-B301-DFB4AD52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8CBF-34CC-4EF9-B2FD-BE1E0EAC9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0F49-97D7-43E9-9EFD-1F1ECA861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08F7-14AE-4414-A5A4-F81CF457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E718-32C3-4C21-9468-1DC69A30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98F0-7696-4684-BB6F-CD3A37AE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30F0-E57E-42A7-95AC-6CD872CA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C601-4EBC-4144-97A6-6A570143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2084-41D0-4B63-A45A-02AA1405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C834-A887-4983-9B94-3B86BFFC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F4D6-A51D-4D81-9896-69693D37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FB70-421B-421B-8D79-C663E51B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D1B7-7128-4726-BBF2-F156CD6E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DC57-3506-46BF-AB90-6A6DB8FFB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26EF-04A7-4BE0-A3B5-1091D2BAD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90BD-F962-4685-8759-423A69EE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24C5-1BCF-4C3B-ADCA-83D00EF5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57C5-68E8-47CB-B65D-C72BF2A7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AA5C-ACC9-47BD-885E-E7C25BD3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A70C-7A19-4B49-9637-BCF5E002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C6F7-A291-4A9A-A552-3642C9F2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D423-CEEB-412F-828C-B230C36D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058F-8BB5-4B2E-9DB7-6C89E6F4AC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9CD1-5D83-430F-9C70-65971519A8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areer.indstate.edu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me Wri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358128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rone Sess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ing O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resume is a document used to present your education, experience and qualifications. There are different styles, but the basic nature and purpose of the information are the s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ty_present2" descr=""/>
          <p:cNvPicPr/>
          <p:nvPr/>
        </p:nvPicPr>
        <p:blipFill>
          <a:blip r:embed="rId1"/>
          <a:stretch/>
        </p:blipFill>
        <p:spPr>
          <a:xfrm>
            <a:off x="5145120" y="26463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Your Resume is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advertisement of you. It informs employers of the education and talents available from a candidate, and should generate interest and action from the employ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ke all good advertisements, your resume should communicate essential information within second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ésumé's single most important function is to win an interview for the candidat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Good Resume Will,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t you the intervie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epare you mentally for making a strong present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ructure the interview in your favo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mind the interviewer of your bes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ustify the hiring deci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 your Audi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88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As in any writing, you must know your audience.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What is important?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What are they looking for?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What skills are required?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Aggressive or conservative?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ty_desk3" descr=""/>
          <p:cNvPicPr/>
          <p:nvPr/>
        </p:nvPicPr>
        <p:blipFill>
          <a:blip r:embed="rId1"/>
          <a:stretch/>
        </p:blipFill>
        <p:spPr>
          <a:xfrm>
            <a:off x="1182600" y="264636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An ideal candidate profile would include the following skills and attributes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Ability to acquire new technical skills easily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Experience working in teams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Ability to persuade others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Creative problem solving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Demonstrated leadership aptitude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Strong work ethic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Ability to acquire foreign languages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Ambition and reliability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ngs to Inclu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143000" y="2286000"/>
          <a:ext cx="7772400" cy="3316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nshi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-o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rk Experience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room Project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v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udy Abroad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earch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lic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ntation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nors and Award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ud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viti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rt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unity Service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nguage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ology Experience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ps From The Pro’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ver fold your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y away from too many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it to one p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s on separate p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abbrev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uble check your doubl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lear and conc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unctional contac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yourself before you sell anything e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Career Cen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have example resumes to help yo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nted materials to guide yo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inks on Webs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have a New Website that will help you with all your professional need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career.indstate.edu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9T16:29:16Z</dcterms:created>
  <dc:creator>Tyrone Sessom</dc:creator>
  <dc:description/>
  <dc:language>en-US</dc:language>
  <cp:lastModifiedBy>Tyrone Sessom</cp:lastModifiedBy>
  <dcterms:modified xsi:type="dcterms:W3CDTF">2003-05-23T17:18:27Z</dcterms:modified>
  <cp:revision>8</cp:revision>
  <dc:subject/>
  <dc:title>Resume Writing</dc:title>
</cp:coreProperties>
</file>