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3423-AB60-41EB-8DB1-7F2F38AB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7927-AAD3-4A0C-80F2-21603170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2A12-D7F5-4033-B812-624AEEAF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1AD9-66CE-44AE-BA77-AB624257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2CEE-C055-46A4-A311-01A0C85F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B55B-0E58-4AB3-96DA-7C9665E1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F39D-741C-4C07-BBC7-876CE312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A66D-7321-4C88-9F50-51001CDE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CDEA-0EB7-4AA7-AA30-E0F9DB30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5BFB-C038-45D6-AE1A-55139929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2751-83B2-4BC5-9981-5D57F540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E88F-361A-4A1E-95A8-3F18F12D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37A5-53B6-46A0-87DF-70C702230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240" y="365760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rone Sess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e01598_" descr=""/>
          <p:cNvPicPr/>
          <p:nvPr/>
        </p:nvPicPr>
        <p:blipFill>
          <a:blip r:embed="rId1"/>
          <a:stretch/>
        </p:blipFill>
        <p:spPr>
          <a:xfrm>
            <a:off x="5029200" y="3276720"/>
            <a:ext cx="35812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Times New Roman"/>
              </a:rPr>
              <a:t>The Resume:</a:t>
            </a:r>
            <a:br>
              <a:rPr sz="4000"/>
            </a:br>
            <a:r>
              <a:rPr b="1" lang="en-US" sz="5400" spc="-1" strike="noStrike">
                <a:solidFill>
                  <a:srgbClr val="339966"/>
                </a:solidFill>
                <a:latin typeface="Times New Roman"/>
              </a:rPr>
              <a:t>Which type do I choose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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Distinguish Yoursel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a format that will grab the reader’s attention and that best highlights your accomplish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REVERSE CHRONOLOG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FUNCTIONAL/CHRONOLOG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oice is your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Times New Roman"/>
              </a:rPr>
              <a:t>The Resume:</a:t>
            </a:r>
            <a:br>
              <a:rPr sz="4000"/>
            </a:br>
            <a:r>
              <a:rPr b="1" lang="en-US" sz="5400" spc="-1" strike="noStrike">
                <a:solidFill>
                  <a:srgbClr val="cc3300"/>
                </a:solidFill>
                <a:latin typeface="Times New Roman"/>
              </a:rPr>
              <a:t>Reverse Chronologic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ommon format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s listed in order of most recent to the furthest i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names, dates and places of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 and work experience grouped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for showing progression in a car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ights related job exper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Times New Roman"/>
              </a:rPr>
              <a:t>The Resume:</a:t>
            </a:r>
            <a:br>
              <a:rPr sz="4000"/>
            </a:br>
            <a:r>
              <a:rPr b="1" lang="en-US" sz="5400" spc="-1" strike="noStrike">
                <a:solidFill>
                  <a:srgbClr val="cc3300"/>
                </a:solidFill>
                <a:latin typeface="Times New Roman"/>
              </a:rPr>
              <a:t>Functional/Chronologic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es on the transferable skills that you have gained through your education, leadership, and work experi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s grouped under heading such as: Communication Skills, Leadership Abilities, and Research and Writing Skill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 and work experience are listed from most recent to the furthest 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Times New Roman"/>
              </a:rPr>
              <a:t>The Resume:</a:t>
            </a:r>
            <a:br>
              <a:rPr sz="4000"/>
            </a:br>
            <a:r>
              <a:rPr b="1" lang="en-US" sz="5400" spc="-1" strike="noStrike">
                <a:solidFill>
                  <a:srgbClr val="339966"/>
                </a:solidFill>
                <a:latin typeface="Times New Roman"/>
              </a:rPr>
              <a:t>Before you start</a:t>
            </a:r>
            <a:r>
              <a:rPr b="1" lang="en-US" sz="4000" spc="-1" strike="noStrike">
                <a:solidFill>
                  <a:srgbClr val="339966"/>
                </a:solidFill>
                <a:latin typeface="Times New Roman"/>
              </a:rPr>
              <a:t>,</a:t>
            </a:r>
            <a:r>
              <a:rPr b="1" lang="en-US" sz="5400" spc="-1" strike="noStrike">
                <a:solidFill>
                  <a:srgbClr val="339966"/>
                </a:solidFill>
                <a:latin typeface="Times New Roman"/>
              </a:rPr>
              <a:t> remember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 focused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 is your biggest selling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y away from ital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ction verbs that show a variety of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 attention to verb t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consis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e01976_" descr=""/>
          <p:cNvPicPr/>
          <p:nvPr/>
        </p:nvPicPr>
        <p:blipFill>
          <a:blip r:embed="rId1"/>
          <a:stretch/>
        </p:blipFill>
        <p:spPr>
          <a:xfrm>
            <a:off x="5562720" y="4191120"/>
            <a:ext cx="327636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: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s·u·mé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ummary, esp. a brief record of one’s personal history and experience submitted for a job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d06210_" descr=""/>
          <p:cNvPicPr/>
          <p:nvPr/>
        </p:nvPicPr>
        <p:blipFill>
          <a:blip r:embed="rId1"/>
          <a:stretch/>
        </p:blipFill>
        <p:spPr>
          <a:xfrm>
            <a:off x="3352680" y="4724280"/>
            <a:ext cx="22860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Times New Roman"/>
              </a:rPr>
              <a:t>The </a:t>
            </a:r>
            <a:r>
              <a:rPr b="1" lang="en-US" sz="40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Resume:</a:t>
            </a:r>
            <a:br>
              <a:rPr sz="4000"/>
            </a:br>
            <a:r>
              <a:rPr b="1" lang="en-US" sz="60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A Reflection of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2819520"/>
            <a:ext cx="47242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want to present yoursel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experiences and skills do you want to highli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ccomplishments do you want to showca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bd10568_" descr=""/>
          <p:cNvPicPr/>
          <p:nvPr/>
        </p:nvPicPr>
        <p:blipFill>
          <a:blip r:embed="rId1"/>
          <a:stretch/>
        </p:blipFill>
        <p:spPr>
          <a:xfrm>
            <a:off x="5791320" y="2666880"/>
            <a:ext cx="2744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Times New Roman"/>
              </a:rPr>
              <a:t>The Resume:</a:t>
            </a:r>
            <a:br>
              <a:rPr sz="4000"/>
            </a:br>
            <a:r>
              <a:rPr b="1" lang="en-US" sz="5400" spc="-1" strike="noStrike">
                <a:solidFill>
                  <a:srgbClr val="339966"/>
                </a:solidFill>
                <a:latin typeface="Times New Roman"/>
              </a:rPr>
              <a:t>Important Things to Consid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5943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promotional piece designed to sell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intended to get you the interview, NOT the j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comprehensive detailed history of career, but a summary of experiences, qualifications and ski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d07128_" descr=""/>
          <p:cNvPicPr/>
          <p:nvPr/>
        </p:nvPicPr>
        <p:blipFill>
          <a:blip r:embed="rId1"/>
          <a:stretch/>
        </p:blipFill>
        <p:spPr>
          <a:xfrm>
            <a:off x="7010280" y="2514600"/>
            <a:ext cx="1806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Times New Roman"/>
              </a:rPr>
              <a:t>The Resume:</a:t>
            </a:r>
            <a:br>
              <a:rPr sz="4000"/>
            </a:br>
            <a:r>
              <a:rPr b="1" lang="en-US" sz="5400" spc="-1" strike="noStrike">
                <a:solidFill>
                  <a:srgbClr val="339966"/>
                </a:solidFill>
                <a:latin typeface="Times New Roman"/>
              </a:rPr>
              <a:t>Basics to Rememb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it to on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tandard 8 ½ x 11 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te and ivory are generally the acceptable colors of paper to 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laser quality pri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ck with a font such as Times New Roman or A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read, Proofread and Proofread agai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Times New Roman"/>
              </a:rPr>
              <a:t>The Resume:</a:t>
            </a:r>
            <a:br>
              <a:rPr sz="4000"/>
            </a:br>
            <a:r>
              <a:rPr b="1" lang="en-US" sz="5400" spc="-1" strike="noStrike">
                <a:solidFill>
                  <a:srgbClr val="339966"/>
                </a:solidFill>
                <a:latin typeface="Times New Roman"/>
              </a:rPr>
              <a:t>Where do I begi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6858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 list with the categories bel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JOB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PERIENC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CTIVIES AND INTER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e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07204_" descr=""/>
          <p:cNvPicPr/>
          <p:nvPr/>
        </p:nvPicPr>
        <p:blipFill>
          <a:blip r:embed="rId1"/>
          <a:stretch/>
        </p:blipFill>
        <p:spPr>
          <a:xfrm>
            <a:off x="228600" y="5105520"/>
            <a:ext cx="236232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rainstorming:</a:t>
            </a:r>
            <a:br>
              <a:rPr sz="40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What to consider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5486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ship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nors and Aw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la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g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T ALL COUN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430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pus 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ty 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o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eer-Related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s You Want to Achi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Times New Roman"/>
              </a:rPr>
              <a:t>The Resume:</a:t>
            </a:r>
            <a:br>
              <a:rPr sz="4000"/>
            </a:br>
            <a:r>
              <a:rPr b="1" lang="en-US" sz="5400" spc="-1" strike="noStrike">
                <a:solidFill>
                  <a:srgbClr val="339966"/>
                </a:solidFill>
                <a:latin typeface="Times New Roman"/>
              </a:rPr>
              <a:t>Putting it all togeth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what information is the most impor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lear and forceful wor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ss achiev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fy whenever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on a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j0078713" descr=""/>
          <p:cNvPicPr/>
          <p:nvPr/>
        </p:nvPicPr>
        <p:blipFill>
          <a:blip r:embed="rId1"/>
          <a:stretch/>
        </p:blipFill>
        <p:spPr>
          <a:xfrm>
            <a:off x="7162920" y="3124080"/>
            <a:ext cx="162720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16:39:18Z</dcterms:created>
  <dc:creator>Valued Gateway Client</dc:creator>
  <dc:description/>
  <dc:language>en-US</dc:language>
  <cp:lastModifiedBy>Tyrone Sessom</cp:lastModifiedBy>
  <dcterms:modified xsi:type="dcterms:W3CDTF">2003-05-23T16:54:13Z</dcterms:modified>
  <cp:revision>10</cp:revision>
  <dc:subject/>
  <dc:title>PowerPoint Presentation</dc:title>
</cp:coreProperties>
</file>