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202F-5450-41C6-B593-C0E3730AC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4DC7-1B23-4D94-9697-52ED5FCE0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568C-2F98-4F35-8ED2-5A790FEE7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432D-AD3A-4DDD-8A1E-FCAF7C4A6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55AAB-CEDC-4219-9C52-5BEEDBD6E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AC1CF-689F-490A-8C14-CC6B4B112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DB14B-A913-438E-9823-B0C0570B5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90DD0-4250-4C87-A4DE-6311FFAD2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A2538-4379-41DD-9B02-4049A5962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5A89A-62AD-4FC1-A385-0FE3BE3ED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FE22E-6AEB-4F2E-A7F1-85974B13C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33BD-8EE6-47AB-B08F-B14F3BAE5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E2A28-483A-41E2-947F-A97F7C6B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7E579-E40B-49A9-A4DA-BAAECE32B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8DED6-DDAB-4164-894D-B9AA50E31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685CE-ABB3-4298-8122-D9C928649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C1523-148E-4446-A10F-1DBA34CCB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744C-181D-4ADA-A5B4-02443C73B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9CCA-B98E-4A5A-94CD-B3B3207EE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F7A9-667B-4D77-8199-6787874B3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30DA-0B6E-4F52-894E-5C41D608D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402C-D698-4C64-8868-F4A6FA1E1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E47E-C17D-47E4-81AD-0F9816174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B816-48C7-4222-B1C2-17D2E5F77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01BD9-FB7A-4E88-9194-5D8B9FC11DEC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A07A4-47FE-4C87-BD28-70ED25536840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Times New Roman"/>
              </a:rPr>
              <a:t>Networking for Success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566720" y="3048120"/>
            <a:ext cx="66628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yrone Sessom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219320" y="609480"/>
            <a:ext cx="6933960" cy="6248520"/>
          </a:xfrm>
          <a:prstGeom prst="irregularSeal1">
            <a:avLst/>
          </a:prstGeom>
          <a:solidFill>
            <a:srgbClr val="edecdb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New Career Center Website!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4" name="bs00580_" descr=""/>
          <p:cNvPicPr/>
          <p:nvPr/>
        </p:nvPicPr>
        <p:blipFill>
          <a:blip r:embed="rId1"/>
          <a:stretch/>
        </p:blipFill>
        <p:spPr>
          <a:xfrm>
            <a:off x="2819520" y="2286000"/>
            <a:ext cx="3903480" cy="3287880"/>
          </a:xfrm>
          <a:prstGeom prst="rect">
            <a:avLst/>
          </a:prstGeom>
          <a:ln w="0">
            <a:noFill/>
          </a:ln>
        </p:spPr>
      </p:pic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2976480"/>
            <a:ext cx="80294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Times New Roman"/>
              </a:rPr>
              <a:t>http://career.indstate.edu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mportance of Network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09640" y="2214720"/>
            <a:ext cx="795816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Networking will expose you to the largest number of job leads in the shortest length of tim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75-80% of jobs never get advertised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Building helpful professional relationship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Establishing a pool of resources and outlet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References!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Building a Network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09640" y="3124080"/>
            <a:ext cx="79581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Volunteerism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Internships/co-op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Business Event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ctivities/Organization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Professional Association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19320" y="2209680"/>
            <a:ext cx="73152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Things you can do while in college</a:t>
            </a:r>
            <a:br>
              <a:rPr sz="3200"/>
            </a:b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Volunteerism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09640" y="2214720"/>
            <a:ext cx="795816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Times New Roman"/>
                <a:ea typeface="Arial"/>
              </a:rPr>
              <a:t>Helping in an after school program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Times New Roman"/>
                <a:ea typeface="Arial"/>
              </a:rPr>
              <a:t>Working with the senior citizens in your neighborhood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Times New Roman"/>
                <a:ea typeface="Arial"/>
              </a:rPr>
              <a:t>Organizing activities for children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Times New Roman"/>
                <a:ea typeface="Arial"/>
              </a:rPr>
              <a:t>Grassroots program in you community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Times New Roman"/>
                <a:ea typeface="Arial"/>
              </a:rPr>
              <a:t>Joining local organizations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Times New Roman"/>
                <a:ea typeface="Arial"/>
              </a:rPr>
              <a:t>Contacting your local Chamber of Commerce, YMCA, Boys and Girls Clubs, hospital or school to find out ways to help. 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ternships/Co-op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2209680"/>
            <a:ext cx="79581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  <a:ea typeface="Arial"/>
              </a:rPr>
              <a:t>Internships and Co-ops provide students the opportunity to discuss career-related issues with real professional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  <a:ea typeface="Arial"/>
              </a:rPr>
              <a:t>Blend theory and practice during work on training assignments related to their field of stud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Business Even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7720" y="2285640"/>
            <a:ext cx="39020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Career Fair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minars/Workshop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Conferenc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Business Social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Community Meeting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ward Event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Luncheons/Dinner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3" name="ty_present5" descr=""/>
          <p:cNvPicPr/>
          <p:nvPr/>
        </p:nvPicPr>
        <p:blipFill>
          <a:blip r:embed="rId1"/>
          <a:stretch/>
        </p:blipFill>
        <p:spPr>
          <a:xfrm>
            <a:off x="4876920" y="2514600"/>
            <a:ext cx="39034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ctivities/Organizat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09640" y="3657240"/>
            <a:ext cx="79581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Campus Involvemen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tudent Social Organizatio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Fraternities &amp; Sororiti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lub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Community Servic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066680" y="2286000"/>
            <a:ext cx="678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Arial"/>
              </a:rPr>
              <a:t>Past behavior is the best single predictor of future behavior. You will be evaluated on your past behaviors and accomplishments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ofessional Associat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1640" y="2895480"/>
            <a:ext cx="4343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urrounding yourself with people that are driven to succeed is importan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Enthusiasm is Contagious!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ts not always what you know…”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990720" y="2209680"/>
            <a:ext cx="3375000" cy="38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Benefits of Network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762120" y="2362320"/>
          <a:ext cx="7800840" cy="3881160"/>
        </p:xfrm>
        <a:graphic>
          <a:graphicData uri="http://schemas.openxmlformats.org/drawingml/2006/table">
            <a:tbl>
              <a:tblPr/>
              <a:tblGrid>
                <a:gridCol w="2523960"/>
                <a:gridCol w="2829240"/>
                <a:gridCol w="2447640"/>
              </a:tblGrid>
              <a:tr h="1941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Job Leads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Professional Development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vailable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Resources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93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Personal Growth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Business Opportunities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Increased Confidence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Level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8T13:43:42Z</dcterms:created>
  <dc:creator>Tyrone Sessom</dc:creator>
  <dc:description/>
  <dc:language>en-US</dc:language>
  <cp:lastModifiedBy>Tyrone Sessom</cp:lastModifiedBy>
  <dcterms:modified xsi:type="dcterms:W3CDTF">2003-05-23T16:53:42Z</dcterms:modified>
  <cp:revision>27</cp:revision>
  <dc:subject/>
  <dc:title>Networking for Success</dc:title>
</cp:coreProperties>
</file>