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55574-B6B8-4396-8C64-BA81F7E5E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1CD26-DC2A-413B-978E-277B96C47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AEBB4-47B9-40D5-925C-C99C88F34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3C153-EE50-48B3-87FC-01B8D54D7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0F37A-2F93-4971-89A6-BD3593242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CB523-92A4-4C38-AC94-0314E3158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95F62-952B-49BF-A8C8-39F2CF6CA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FADAF-DFED-4474-9284-9DF7BA822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531D2-6DBA-4EA1-A4E2-24709FCF1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373BC-062E-4083-805E-84918B695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E10F1-5DF6-4AEA-844E-7DFCE262F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F78A3-B19B-42A7-AD42-AD2DDDD6B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0EAB2-A5F6-40BE-8687-6B9BD61B6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C4D58-E88A-4209-A203-ABA2DCFCC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5EE18-D58B-4A26-819B-3DADD95BF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26FA4-F76E-4FE9-8EE9-8ED3F2A31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BC479-10AF-49A6-8B19-025507A40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1645C-EF68-46FD-917A-C402032A4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A3ADA-ABB1-4F12-81CE-9465C9ABC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B1ECC-AED5-4C12-AC77-ADCE299AB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27507-475B-4BF4-A7B4-7B8EE9BFC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D785C-64BC-48F7-996A-035E0C890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D697B-93E7-4E84-A001-C3C26FA37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DB858-E4A4-48AD-8A72-19A801184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8400"/>
            <a:ext cx="8915400" cy="6713280"/>
            <a:chOff x="0" y="68400"/>
            <a:chExt cx="8915400" cy="6713280"/>
          </a:xfrm>
        </p:grpSpPr>
        <p:grpSp>
          <p:nvGrpSpPr>
            <p:cNvPr id="1" name=""/>
            <p:cNvGrpSpPr/>
            <p:nvPr/>
          </p:nvGrpSpPr>
          <p:grpSpPr>
            <a:xfrm>
              <a:off x="0" y="68400"/>
              <a:ext cx="647640" cy="6713280"/>
              <a:chOff x="0" y="68400"/>
              <a:chExt cx="647640" cy="671328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6672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72948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781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652932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6453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660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58197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57769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63817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6181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6053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6348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5853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59389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6253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6219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55720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56293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5681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54291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53532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500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47196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4676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52815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508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0" y="49528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0" y="52484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0" y="47530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0" y="4838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0" y="515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0" y="51195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0" y="449424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0" y="43657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0" y="4251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0" y="4565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0" y="45324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0" y="4054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0" y="4111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0" y="41641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0" y="391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0" y="3835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0" y="398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0" y="3763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0" y="35640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0" y="37306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0" y="36352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36021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0" y="3381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0" y="3438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3490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0" y="3238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3162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0" y="3309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0" y="25290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24861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09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2890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762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3057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621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6478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0" y="29624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0" y="29289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0" y="2281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0" y="2338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0" y="23907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0" y="21384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0" y="22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0" y="16128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0" y="1569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0" y="19749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0" y="1846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0" y="1646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0" y="17319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0" y="20462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0" y="2013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0" y="1365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0" y="1422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0" y="1474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0" y="12222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0" y="1293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0" y="1139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10256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828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885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9381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0" y="685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0" y="6094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0" y="7570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0" y="538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0" y="504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0" y="4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0" y="111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0" y="6840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0" y="144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0" y="230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0" y="320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635040" y="325440"/>
              <a:ext cx="8280360" cy="1782720"/>
              <a:chOff x="635040" y="325440"/>
              <a:chExt cx="8280360" cy="1782720"/>
            </a:xfrm>
          </p:grpSpPr>
          <p:sp>
            <p:nvSpPr>
              <p:cNvPr id="101" name=""/>
              <p:cNvSpPr/>
              <p:nvPr/>
            </p:nvSpPr>
            <p:spPr>
              <a:xfrm>
                <a:off x="884160" y="325440"/>
                <a:ext cx="496800" cy="145080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35040" y="4572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300800" y="1770120"/>
                <a:ext cx="1474920" cy="33804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252960" y="19224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020600" indent="-2145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342800" indent="-214560">
              <a:spcBef>
                <a:spcPts val="7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1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2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3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D590C-510D-464F-9FF0-C12EBA1AC6DE}" type="slidenum"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0" y="68400"/>
            <a:ext cx="8678880" cy="6713280"/>
            <a:chOff x="0" y="68400"/>
            <a:chExt cx="8678880" cy="6713280"/>
          </a:xfrm>
        </p:grpSpPr>
        <p:sp>
          <p:nvSpPr>
            <p:cNvPr id="147" name=""/>
            <p:cNvSpPr/>
            <p:nvPr/>
          </p:nvSpPr>
          <p:spPr>
            <a:xfrm>
              <a:off x="1098720" y="784080"/>
              <a:ext cx="7580160" cy="14860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0" y="68400"/>
              <a:ext cx="990720" cy="6713280"/>
              <a:chOff x="0" y="68400"/>
              <a:chExt cx="990720" cy="6713280"/>
            </a:xfrm>
          </p:grpSpPr>
          <p:sp>
            <p:nvSpPr>
              <p:cNvPr id="149" name=""/>
              <p:cNvSpPr/>
              <p:nvPr/>
            </p:nvSpPr>
            <p:spPr>
              <a:xfrm>
                <a:off x="0" y="6672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0" y="672948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0" y="6781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0" y="652932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0" y="6453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0" y="660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0" y="58197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0" y="57769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0" y="63817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0" y="6181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0" y="6053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0" y="6348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0" y="5853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0" y="59389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0" y="6253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6219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55720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56293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5681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0" y="54291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0" y="53532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0" y="5500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0" y="47196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0" y="4676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0" y="52815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0" y="508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0" y="49528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0" y="52484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0" y="47530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0" y="4838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0" y="515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0" y="51195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0" y="449424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0" y="43657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0" y="4251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0" y="4565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0" y="45324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0" y="4054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0" y="4111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0" y="41641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0" y="391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0" y="3835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0" y="398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0" y="3763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0" y="35640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0" y="37306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0" y="36352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0" y="36021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0" y="3381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0" y="3438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0" y="3490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0" y="3238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0" y="3162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0" y="3309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0" y="25290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0" y="24861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0" y="309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0" y="2890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0" y="2762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0" y="3057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0" y="25621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0" y="26478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0" y="29624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0" y="29289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0" y="2281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0" y="2338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0" y="23907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0" y="21384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0" y="22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0" y="16128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0" y="1569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0" y="19749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0" y="1846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0" y="1646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0" y="17319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0" y="20462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0" y="2013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0" y="1365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0" y="1422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0" y="1474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0" y="12222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0" y="1293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0" y="1139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0" y="10256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0" y="828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0" y="885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0" y="9381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685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0" y="6094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0" y="7570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538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0" y="504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0" y="4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0" y="111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0" y="6840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144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0" y="230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0" y="320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7" name="PlaceHolder 1"/>
          <p:cNvSpPr>
            <a:spLocks noGrp="1"/>
          </p:cNvSpPr>
          <p:nvPr>
            <p:ph type="dt" idx="4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5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6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BCABC-1538-44F8-B667-C8ED8BC2063C}" type="slidenum"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017880" y="2120760"/>
            <a:ext cx="5662440" cy="77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098720" y="861840"/>
            <a:ext cx="5662440" cy="781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2" marL="857160" algn="ctr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3" marL="1200240" algn="ctr">
              <a:spcBef>
                <a:spcPts val="4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4" marL="1542960" algn="ctr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5" marL="154296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6" marL="154296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66"/>
                </a:solidFill>
                <a:latin typeface="Times New Roman"/>
              </a:rPr>
              <a:t>Networking for Success</a:t>
            </a: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1566720" y="3048120"/>
            <a:ext cx="666288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yrone Sessom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219320" y="609480"/>
            <a:ext cx="6933960" cy="6248520"/>
          </a:xfrm>
          <a:prstGeom prst="irregularSeal1">
            <a:avLst/>
          </a:prstGeom>
          <a:solidFill>
            <a:srgbClr val="edecdb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New Career Center Website!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14" name="bs00580_" descr=""/>
          <p:cNvPicPr/>
          <p:nvPr/>
        </p:nvPicPr>
        <p:blipFill>
          <a:blip r:embed="rId1"/>
          <a:stretch/>
        </p:blipFill>
        <p:spPr>
          <a:xfrm>
            <a:off x="2819520" y="2286000"/>
            <a:ext cx="3903480" cy="3287880"/>
          </a:xfrm>
          <a:prstGeom prst="rect">
            <a:avLst/>
          </a:prstGeom>
          <a:ln w="0">
            <a:noFill/>
          </a:ln>
        </p:spPr>
      </p:pic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85800" y="2976480"/>
            <a:ext cx="80294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3366"/>
                </a:solidFill>
                <a:latin typeface="Times New Roman"/>
              </a:rPr>
              <a:t>http://career.indstate.edu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Importance of Networking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809640" y="2214720"/>
            <a:ext cx="7958160" cy="41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Networking will expose you to the largest number of job leads in the shortest length of time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75-80% of jobs never get advertised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Building helpful professional relationship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Establishing a pool of resources and outlet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References!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Building a Network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09640" y="3124080"/>
            <a:ext cx="79581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Volunteerism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Internships/co-op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Business Event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Activities/Organization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Professional Association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219320" y="2209680"/>
            <a:ext cx="73152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Things you can do while in college</a:t>
            </a:r>
            <a:br>
              <a:rPr sz="3200"/>
            </a:b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Volunteerism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809640" y="2214720"/>
            <a:ext cx="7958160" cy="41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Times New Roman"/>
                <a:ea typeface="Arial"/>
              </a:rPr>
              <a:t>Helping in an after school program</a:t>
            </a:r>
            <a:endParaRPr b="0" lang="en-US" sz="2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Times New Roman"/>
                <a:ea typeface="Arial"/>
              </a:rPr>
              <a:t>Working with the senior citizens in your neighborhood</a:t>
            </a:r>
            <a:endParaRPr b="0" lang="en-US" sz="2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Times New Roman"/>
                <a:ea typeface="Arial"/>
              </a:rPr>
              <a:t>Organizing activities for children</a:t>
            </a:r>
            <a:endParaRPr b="0" lang="en-US" sz="2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Times New Roman"/>
                <a:ea typeface="Arial"/>
              </a:rPr>
              <a:t>Grassroots program in you community</a:t>
            </a:r>
            <a:endParaRPr b="0" lang="en-US" sz="2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Times New Roman"/>
                <a:ea typeface="Arial"/>
              </a:rPr>
              <a:t>Joining local organizations</a:t>
            </a:r>
            <a:endParaRPr b="0" lang="en-US" sz="2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Times New Roman"/>
                <a:ea typeface="Arial"/>
              </a:rPr>
              <a:t>Contacting your local Chamber of Commerce, YMCA, Boys and Girls Clubs, hospital or school to find out ways to help. </a:t>
            </a:r>
            <a:endParaRPr b="0" lang="en-US" sz="26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Internships/Co-op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838080" y="2209680"/>
            <a:ext cx="795816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  <a:ea typeface="Arial"/>
              </a:rPr>
              <a:t>Internships and Co-ops provide students the opportunity to discuss career-related issues with real professional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  <a:ea typeface="Arial"/>
              </a:rPr>
              <a:t>Blend theory and practice during work on training assignments related to their field of study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Business Event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37720" y="2285640"/>
            <a:ext cx="390204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Career Fair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Seminars/Workshop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Conference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Business Social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Community Meeting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Award Event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Luncheons/Dinner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03" name="ty_present5" descr=""/>
          <p:cNvPicPr/>
          <p:nvPr/>
        </p:nvPicPr>
        <p:blipFill>
          <a:blip r:embed="rId1"/>
          <a:stretch/>
        </p:blipFill>
        <p:spPr>
          <a:xfrm>
            <a:off x="4876920" y="2514600"/>
            <a:ext cx="39034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ctivities/Organization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809640" y="3657240"/>
            <a:ext cx="795816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Campus Involvement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Student Social Organization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Fraternities &amp; Sororitie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Club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Community Service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066680" y="2286000"/>
            <a:ext cx="6782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Arial"/>
              </a:rPr>
              <a:t>Past behavior is the best single predictor of future behavior. You will be evaluated on your past behaviors and accomplishments.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rofessional Association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1640" y="2895480"/>
            <a:ext cx="43434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Surrounding yourself with people that are driven to succeed is important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Enthusiasm is Contagious!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Its not always what you know…”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1"/>
          <a:stretch/>
        </p:blipFill>
        <p:spPr>
          <a:xfrm>
            <a:off x="990720" y="2209680"/>
            <a:ext cx="3375000" cy="38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he Benefits of Networking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762120" y="2362320"/>
          <a:ext cx="7800840" cy="3881160"/>
        </p:xfrm>
        <a:graphic>
          <a:graphicData uri="http://schemas.openxmlformats.org/drawingml/2006/table">
            <a:tbl>
              <a:tblPr/>
              <a:tblGrid>
                <a:gridCol w="2523960"/>
                <a:gridCol w="2829240"/>
                <a:gridCol w="2447640"/>
              </a:tblGrid>
              <a:tr h="1941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Job Leads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Professional Development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Available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Resources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1939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Personal Growth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Business Opportunities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Increased Confidence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Level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8T13:43:42Z</dcterms:created>
  <dc:creator>Tyrone Sessom</dc:creator>
  <dc:description/>
  <dc:language>en-US</dc:language>
  <cp:lastModifiedBy>Tyrone Sessom</cp:lastModifiedBy>
  <dcterms:modified xsi:type="dcterms:W3CDTF">2003-05-23T16:53:42Z</dcterms:modified>
  <cp:revision>27</cp:revision>
  <dc:subject/>
  <dc:title>Networking for Success</dc:title>
</cp:coreProperties>
</file>