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0D61-CC9D-46A5-BAC4-19D2F4D9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B536-B83D-43FC-8B5B-7E338F88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C4CD-F610-47B2-B55D-657158D6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B76-E101-4812-B48A-A9E6376D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D4F7-299D-4580-8A87-E351C613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D075-D714-4875-AE2F-6FF601BB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CAD0-4DEC-4E65-A5C9-2A97CFDF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CA12-2FF7-40D8-A45E-BA4431E1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8FED-9946-43E7-87CC-19F4DAC1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394F-6BB8-471E-AC95-03408860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8C72-57BC-4D52-BA10-C955449D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1A21-406B-4D19-B392-DA44525C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92E9-C2BC-49A1-B21A-0966F965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74EB-0054-426D-932F-24C0DF01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770E-256F-48C0-9624-AB5A1733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074D-0EBA-47BC-8EA4-04A6604D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85B1-8557-45C4-86E1-8E57CE28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82E3-29DC-4BA0-A60A-9C33FB0E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63E0-5B94-4B38-88FF-61DD1E22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6A4-9E43-42C4-B6C3-5E95D5EC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08E6-2E06-4D16-B158-E4858615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EE97-4751-4225-B160-5538DAF0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B8B-3A52-494B-A931-CE612990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5BB0-1EA0-4561-8DBD-5CE39711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9FCB-73D4-4C68-AFF6-001FA80F1E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4E63-75CE-4BB1-98F5-2AC22B1370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Family Feud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Garamond"/>
              </a:rPr>
              <a:t>Interviewing Technique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5029200"/>
            <a:ext cx="5791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Garamond"/>
              </a:rPr>
              <a:t>Tyrone Sess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ollowing The Intervie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an interview you should alway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nd a follow-up 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all the next day and check on your stat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ush in your ch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elebrate by having a drink with fri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fessional Pres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are late, be sure that your not more tha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5 minutes 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10 minutes 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20 minu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fessional Pres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cologne should b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Used, but only in moder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Left on your dress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The latest brand on  the marke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Sprayed on your hands before greeting someon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 The Heat of The Mo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ways have questions prepared for employ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e or Fal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fessional Pres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“2-Minute drill,” refers to th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The time it takes for an employer to evaluate yo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Prep time before the actual intervie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Time you’re allowed to answer a ques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Time immediately following the interview; used for gathering information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view Pr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what point do you ask about travel arrangemen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During the int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When they offer you the opportu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Never ask about travel arrang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view Pr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does the actual interview beg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e parking lot of the comp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fter you are introduced to the sta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During lunch with the sta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While on the phone making the appoin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view Pr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resumes should you have prepared for an interview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8-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10-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view Follow-u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’s best to wait,______, before calling to check on you application stat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couple of d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Until the next 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ne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wo w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view Pr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considering how many outfits to take on an interview trip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lways err on the conservative 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t least five outfits will 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nly one is necess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ules of the Ga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ivide into two te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Members of each team will take turns answering 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The first member to buzz in can resp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 correct response earns your team 10 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n incorrect response loses 10pts (Possible 5pts for opponent to pick up with correct respon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40 questions total, 5 categories, random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Team with highest score in the end WI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 The Heat of The Mo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ff members may be screening you, even if they never ask you any question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e or Fal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fessional Pres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ver letter is your introduction to the employer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e or Fal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ollowing The Intervie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nk you letters should always follow an interview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e or Fal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view Pr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employers  will ask for,_______ letters of recommendation or refere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2 to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1or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None of the ab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view Pr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should always have at least,_______ questions prepared to ask during the intervie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2-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3-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5-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8-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 The Heat of The Mo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illegal for employers to ask certain questions of candidat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e or Fal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 The Heat of The Mo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ing the interview luncheon some staff members order beers with their meals, what should you ord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n ice cold M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Water with lem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white w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appucc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 The Heat of The Mo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520" y="3505320"/>
          <a:ext cx="8152920" cy="2057400"/>
        </p:xfrm>
        <a:graphic>
          <a:graphicData uri="http://schemas.openxmlformats.org/drawingml/2006/table">
            <a:tbl>
              <a:tblPr/>
              <a:tblGrid>
                <a:gridCol w="2038320"/>
                <a:gridCol w="2037960"/>
                <a:gridCol w="2038680"/>
                <a:gridCol w="203796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Your Salary Histor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Your Experien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Your Childr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Your Last Job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457200" y="20574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se topics should be avoided at all times during an interview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fessional Pres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066680" y="3429000"/>
          <a:ext cx="6553440" cy="3124080"/>
        </p:xfrm>
        <a:graphic>
          <a:graphicData uri="http://schemas.openxmlformats.org/drawingml/2006/table">
            <a:tbl>
              <a:tblPr/>
              <a:tblGrid>
                <a:gridCol w="2184480"/>
                <a:gridCol w="2184120"/>
                <a:gridCol w="2184840"/>
              </a:tblGrid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Jewelr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ologn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arg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riefcas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ell Phon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Swearing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oud Color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457200" y="20574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se should be avoided at all times during an interview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fessional Pres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rief Case or Portfol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alary Concer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 about salary should be addressed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n the first int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n the second int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Not at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In your follow up 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fessional Pres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sume is a reflection of you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e or Fal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fessional Pres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should bring an example of a past work project to the int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e or Fal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fessional Pres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handling items such as purses, or briefcases you should always carry them in your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Left h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Right h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Both h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Don’t carry any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alary Concer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 about benefits should be asked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n the first int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n the second int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Not at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In your follow up 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view Pr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reer Center hosts a workshop called “The N.E.W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e or Fal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view Pr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have a career center staff member give you a practice interview in preparation for a real one with an actual employer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e or Fal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view Pr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reer Center is located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the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loor of Rankin H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basement of the Libr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loor of the Student Services Bld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loor of HMS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fessional Pres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resume should b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ne p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wo p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ne half p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view Pr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me one member of the Career Center Staff (besides me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Bonus Ques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20pt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 The Heat of The Mo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ypical on campus interview last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15-30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30-4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1 ho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2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alary Concer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n employer asks about your salary history you should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Make up a good fig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Tell them everything that they need to kno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Only discuss the highest fig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Use discretion and negotiat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 The Heat of The Mo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ing the interview you should always have something to drink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e or Fal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alary Concer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determining your value you should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ake an average of your salary fig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Research and discover market n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ake up a fig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view Pr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each interview you should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Visit the Career Center Websit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Pull an “all-nighter,” to prepa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Isolate yourself and think about the intervie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Not rehearse for the interview; Just do i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 The Heat of The Mo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he phone interview you should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Have a copy of your resume in front of yo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Use your cell phone to conduct i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Not take the phone interview very seriousl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Always have a friend on 3-way listening i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ing the phone interview you should alway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Be seat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Have on your best interview suit; look goo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Have soft music on in the backgroun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Have a good friend close by for suppor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 The Heat of The Mo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view Pr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est way to deal with nerves before an interview is to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repare by practic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Utilizing calming tech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reevaluate your view of the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ll of the ab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20:29:37Z</dcterms:created>
  <dc:creator>Tyrone Sessom</dc:creator>
  <dc:description/>
  <dc:language>en-US</dc:language>
  <cp:lastModifiedBy>Tyrone Sessom</cp:lastModifiedBy>
  <dcterms:modified xsi:type="dcterms:W3CDTF">2003-05-23T16:52:31Z</dcterms:modified>
  <cp:revision>33</cp:revision>
  <dc:subject/>
  <dc:title>Family Feud</dc:title>
</cp:coreProperties>
</file>