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283-4959-4A5E-87D5-D683162B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A01-CAA7-423A-8AA1-6737C66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5FE-1A87-419E-A63F-602A8858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A94-967E-4537-91D4-D994E03D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84C-F52E-4840-B472-672908F8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DA4-B683-45FD-8FD7-32D9E21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4F6-B11A-45C9-A8AE-C91BCA2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02B6-A242-47AC-A71B-7AA176EA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252-9379-410B-95D0-15001FDD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467-352F-4FB0-8F0F-FC1BA89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5A04-0E27-4174-8393-B4A9E59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4D4-A6CA-43FB-B2FC-8B65199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E40E-C991-48AD-9C2D-3AC02EE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9F8D-B36F-4069-93DA-D9833B0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AC7A-2411-4E64-9216-DE0DD4E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FD6-1A35-485E-9176-2E9A853F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7B4C-648F-4FF6-8B78-6E5C6D12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EB9-F366-48FA-B5C9-C42F6D40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F9D-CDBF-4B6B-AE07-A7FAD555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E65-9618-4FBC-9046-1933C7AB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544-8E82-4461-A9BA-B21DEC0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723-F9C4-4375-AC04-9E70FB0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7C8-A5E4-457B-B274-FF6E350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926-AA37-45A7-86B6-BA91AE0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4C4-0625-45E8-B897-863640446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2E2B-6FBB-4EB4-AB91-30FABD06E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Family Feud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Garamond"/>
              </a:rPr>
              <a:t>Interviewing Techniqu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5029200"/>
            <a:ext cx="5791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Tyrone Sess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llowing The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 interview you should alway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nd a follow-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ll the next day and check on your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ush in your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elebrate by having a drink with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are late, be sure that your not more tha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 minutes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0 minutes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0 minu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ologne should b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d, but only in mode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eft on your dress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he latest brand on  the marke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prayed on your hands before greeting someon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have questions prepared for employ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2-Minute drill,” refers to th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he time it takes for an employer to evaluate yo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ep time before the actual intervie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ime you’re allowed to answer a ques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ime immediately following the interview; used for gathering information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what point do you ask about travel arrangemen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uring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en they offer you the opport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ever ask about travel arran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oes the actual interview beg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parking lot of the comp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fter you are introduced to the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uring lunch with the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hile on the phone making the appoi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sumes should you have prepared for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8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0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Follow-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best to wait,______, before calling to check on you application s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couple of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il the next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wo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considering how many outfits to take on an interview trip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ways err on the conservative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t least five outfits will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ly one is 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of the G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vide into two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mbers of each team will take turns answering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first member to buzz in can res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correct response earns your team 10 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n incorrect response loses 10pts (Possible 5pts for opponent to pick up with correct respon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40 questions total, 5 categories, random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eam with highest score in the end WI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 members may be screening you, even if they never ask you any question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ver letter is your introduction to the employ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llowing The Int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letters should always follow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employers  will ask for,_______ letters of recommendation or 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 t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or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ne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always have at least,_______ questions prepared to ask during the intervie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3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5-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8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illegal for employers to ask certain questions of candidat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interview luncheon some staff members order beers with their meals, what should you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 ice cold M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ater with l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white w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ppucc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3505320"/>
          <a:ext cx="8152920" cy="2057400"/>
        </p:xfrm>
        <a:graphic>
          <a:graphicData uri="http://schemas.openxmlformats.org/drawingml/2006/table">
            <a:tbl>
              <a:tblPr/>
              <a:tblGrid>
                <a:gridCol w="2038320"/>
                <a:gridCol w="2037960"/>
                <a:gridCol w="2038680"/>
                <a:gridCol w="203796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Salary Histo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Experie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Childr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Your Last Jo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572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topics should be avoided at all times during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3429000"/>
          <a:ext cx="6553440" cy="3124080"/>
        </p:xfrm>
        <a:graphic>
          <a:graphicData uri="http://schemas.openxmlformats.org/drawingml/2006/table">
            <a:tbl>
              <a:tblPr/>
              <a:tblGrid>
                <a:gridCol w="2184480"/>
                <a:gridCol w="2184120"/>
                <a:gridCol w="218484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Jewelr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olog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riefca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ell Phon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wear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oud Colo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572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se should be avoided at all times during an interview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ief Case or Portfol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about salary should be address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first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second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t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 your follow 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me is a reflection of yo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hould bring an example of a past work project to the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andling items such as purses, or briefcases you should always carry them in you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ef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igh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oth h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on’t carry any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about benefits should be ask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first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 the second int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Not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 your follow up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er Center hosts a workshop called “The N.E.W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ave a career center staff member give you a practice interview in preparation for a real one with an actual employe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er Center is locate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Rankin H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basement of the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the Student Services Bld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or of HM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fessional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resume should b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wo 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ne half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one member of the Career Center Staff (besides me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Bonus Ques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20p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ypical on campus interview last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5-3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30-4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1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2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employer asks about your salary history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ake up a good fig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ell them everything that they need to kn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nly discuss the highest fig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 discretion and negotia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interview you should always have something to drin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r 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lary Conc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termining your value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ke an average of your salar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search and discover market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ake up a fig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each interview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Visit the Career Center Webs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ull an “all-nighter,” to prepa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solate yourself and think about the intervie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ot rehearse for the interview; Just do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phone interview you should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a copy of your resume in front of yo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e your cell phone to conduct 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ot take the phone interview very serious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lways have a friend on 3-way listening 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phone interview you should alway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Be sea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on your best interview suit; look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soft music on in the backgr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Have a good friend close by for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The Heat of The Mo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view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st way to deal with nerves before an interview is 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epare by pract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tilizing calming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evaluate your view of th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20:29:37Z</dcterms:created>
  <dc:creator>Tyrone Sessom</dc:creator>
  <dc:description/>
  <dc:language>en-US</dc:language>
  <cp:lastModifiedBy>Tyrone Sessom</cp:lastModifiedBy>
  <dcterms:modified xsi:type="dcterms:W3CDTF">2003-05-23T16:52:31Z</dcterms:modified>
  <cp:revision>33</cp:revision>
  <dc:subject/>
  <dc:title>Family Feud</dc:title>
</cp:coreProperties>
</file>