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340A-8C83-483C-897C-49E90B73D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on screen while talking about cover 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: You have very little time to grab an employers attention-MAKE IT GOO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did—what actions did you ta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them a specific story that proves how you have used the skill you say you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loyers like to see results and accomplish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them what changed, what you learned from the experience or what you would do diff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hrough each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example with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hrough each point adding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for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you to the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tool to showcase your ski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time to grab thei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by deciding what things you want to say, what do you want them to know about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akes you the ONLY candidate for the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hrough each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hrough each point with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 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heets and have them look at the job ad and the res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kills is the company looking for that you could match up with for a cover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 THAT YOU HAVE WHAT YOU SAY YOU HAVE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 what employers are looking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hrough and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15B-3C1C-4436-A243-A7359394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F9D-29AA-48AC-9A2E-7C182EB1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D1E-5434-4266-A8BA-0335C1CE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9960-67EF-43A0-A5F5-A8BB5E5D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0B6A-5072-4875-BB13-010B2F8C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7333-60F3-4903-ABE9-536F347F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3106-7ECC-4BC0-AA1C-FFC58D61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AC17-85FD-49BB-9D4C-AB569BB1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9750-7B87-4554-B62B-70E5C900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6A92-E74D-4393-845F-EC823110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8536-4A13-4BB5-A58B-105FD6E3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5DF-A423-477D-B740-EDA67805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D99C-A875-46BD-800B-C1C184A9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7F2D-7020-4556-8B69-22154955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D0A9-A2DD-4BD1-BA98-6A7535A4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A751-BC42-4117-8699-A18BAABD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8546-78E0-43B4-BADB-98B453A1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7E8-9ED0-4FB3-8057-823C8653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C5C-2E6E-4835-9245-9B5809F1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6A3-0E8D-41BB-BC97-0479E218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9BF-45AE-4A92-8E07-A27D2093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2723-E4DB-4271-AB9F-7A9CD13D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1794-E955-4DD3-BFC0-5F844817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892-CD2F-4037-A570-79F22B6F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3B6D-21F3-4217-9C97-28E8E421C3E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ED9D-B3E7-4B32-BB43-A8BFAFC9019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743200" y="23623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VER LETTERS THAT DELIVE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52480" y="3808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-A-R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828800"/>
            <a:ext cx="77724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at you specifically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o achieve this goal, I organized a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eam of students to plan activities that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ould market the organiz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52480" y="3808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-A-R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676520"/>
            <a:ext cx="77724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at was the end result or what did you learn from the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se activities were so successful,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ur organization exceeded the goal by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gaining 25 new, active me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33720" y="380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losing the Le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1752480"/>
            <a:ext cx="53341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ummarize the key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how enthusiasm for the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escribe how you will follow up (only if you intend 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ank them for their consid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j0250922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495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19320" y="380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752480"/>
            <a:ext cx="746784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My candidacy offers your staff a well-established work ethic, a vision for the future, and a desire to achieve.  With my experience and enthusiasm, I intend to inspire those with whom I wor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I will contact your office the week of,     May 2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nd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, to discuss the possibility of an interview.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ank yo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Jon D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76520" y="380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Helpful H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1828800"/>
            <a:ext cx="8001000" cy="45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atch “I”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howcase accomplishments and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rite to someone if you can (get the inf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oofread Your Wurk; Check Spall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f you said you’d follow up-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O I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mail-What do you think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LWAYS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send with job correspo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j0088870" descr=""/>
          <p:cNvPicPr/>
          <p:nvPr/>
        </p:nvPicPr>
        <p:blipFill>
          <a:blip r:embed="rId1"/>
          <a:stretch/>
        </p:blipFill>
        <p:spPr>
          <a:xfrm>
            <a:off x="5181480" y="533520"/>
            <a:ext cx="3505320" cy="2971800"/>
          </a:xfrm>
          <a:prstGeom prst="rect">
            <a:avLst/>
          </a:prstGeom>
          <a:ln w="0">
            <a:noFill/>
          </a:ln>
        </p:spPr>
      </p:pic>
      <p:pic>
        <p:nvPicPr>
          <p:cNvPr id="171" name="j0091515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2413080" cy="2935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80880" y="106668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 GOOD COVER LETTER CAN HELP YOU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4419720"/>
            <a:ext cx="441972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TAND </a:t>
            </a:r>
            <a:r>
              <a:rPr b="1" lang="en-US" sz="6500" spc="-1" strike="noStrike">
                <a:solidFill>
                  <a:srgbClr val="000066"/>
                </a:solidFill>
                <a:latin typeface="Arial"/>
              </a:rPr>
              <a:t>ALONE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 A CROW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9092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ver Let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41911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troduce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ll them on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rket your ski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Ultimate goal: Get them to look at your res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E01690_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42900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0" y="1676520"/>
            <a:ext cx="419112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uild an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dentify what they     are looking for and match your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dentify 2 or 3 selling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on’t reiterate resume, add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380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Getting Star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j0151825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353040" cy="2057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81080" y="1523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1066680"/>
            <a:ext cx="3657600" cy="573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phone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y, ST  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r Ms. So and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75248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lock Left Format; 12 pt.; Times or Arial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038480"/>
            <a:ext cx="342900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rel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r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l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tting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808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op of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3352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ottom of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0200" y="380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Paragraph 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752480"/>
            <a:ext cx="79246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sentence-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Y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you are writing and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HOW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you heard about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sentence-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at you bring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to the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wo or three things that make you the best candi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at’s it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380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2362320"/>
            <a:ext cx="78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lease consider me for _________ that was advertised in the _________. My _________, ___________, and _________ (2 or 3 skills) make me an ideal candidate for this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057400" y="380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3600" spc="-1" strike="noStrike" baseline="30000">
                <a:solidFill>
                  <a:srgbClr val="006600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&amp; 3</a:t>
            </a:r>
            <a:r>
              <a:rPr b="1" lang="en-US" sz="3600" spc="-1" strike="noStrike" baseline="30000">
                <a:solidFill>
                  <a:srgbClr val="006600"/>
                </a:solidFill>
                <a:latin typeface="Arial"/>
              </a:rPr>
              <a:t>rd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paragrap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2362320"/>
            <a:ext cx="78483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ell them a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ove that you have what you said in the first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ot only talk the talk, but walk the w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876920" y="1600200"/>
            <a:ext cx="3809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e best predictor of future performance is what you’ve done in the pas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j032436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819520" y="3808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Tell Them a Story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057400" y="380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-A-R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752480"/>
            <a:ext cx="77724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Circum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Give them background information on the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s President of Psych Society of the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sychology Department, I had a goal of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ncreasing members from 35 to 50 by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end of our school seme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14:52:09Z</dcterms:created>
  <dc:creator>Student Services ISU</dc:creator>
  <dc:description/>
  <dc:language>en-US</dc:language>
  <cp:lastModifiedBy>Tyrone Sessom</cp:lastModifiedBy>
  <dcterms:modified xsi:type="dcterms:W3CDTF">2003-05-23T18:08:11Z</dcterms:modified>
  <cp:revision>46</cp:revision>
  <dc:subject/>
  <dc:title>PowerPoint Presentation</dc:title>
</cp:coreProperties>
</file>