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B100-6547-488F-BD0E-00705B101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n screen while talking about cover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: You have very little time to grab an employers attention-MAKE IT GOO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did—what actions did you ta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hem a specific story that proves how you have used the skill you say you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loyers like to see results and accomplis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hem what changed, what you learned from the experience or what you would do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each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example with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each point adding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for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 to the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tool to showcase your ski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time to grab thei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by deciding what things you want to say, what do you want them to know about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akes you the ONLY candidate for the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each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each point with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 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eets and have them look at the job ad and the res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kills is the company looking for that you could match up with for a cover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 THAT YOU HAVE WHAT YOU SAY YOU HAV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 what employers are looking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and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E29-220D-4BD9-A36F-D66D7622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13A-51DA-44BD-9166-4574225B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088-9074-42CC-AC0D-86075490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A86-D798-470B-B09C-DDAA6782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AE13-C8AB-437E-9B8B-77C4EDE9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99A0-05D7-4CEA-A731-B9676075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9C8C-AC68-476B-A804-30B27FA2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BE66-B05D-499E-8F7D-3C6DC2A8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CC13-1720-4F96-8DE2-82BFCBCF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84F5-7BE2-4ADE-8918-34BB0206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CC76-70F1-40F4-850B-8FE2790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44A-E2EB-4AED-AADB-DB0C0496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C653-F2C2-494D-985B-5E04BED2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24F6-5EDA-414A-B70E-AE37A11E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7C44-5A89-4265-81D6-79F39B97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DC0C-3585-4E8B-BCD9-6300C6AA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A627-EA2E-446F-85A1-6272EBF2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424-9552-4543-AFC6-90C4222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EB2-53F8-4F35-986E-6F3EA018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AAD-6676-4F26-A2F7-BA024C8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79C-8594-45BB-B585-EDDBC03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346-70DB-4654-A064-4B6435B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071-4C2A-4967-A981-741EB590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19A-BDAB-488B-A13B-F28A6CDD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CF06-B205-42A7-9492-8601284E96D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BB62-EE53-4303-9495-619CEBA98DA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43200" y="23623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VER LETTERS THAT DELIV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-A-R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828800"/>
            <a:ext cx="77724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you specifically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o achieve this goal, I organized a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eam of students to plan activities that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ould market the organiz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52480" y="380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-A-R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76520"/>
            <a:ext cx="77724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was the end result or what did you learn from the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se activities were so successful,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ur organization exceeded the goal by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aining 25 new, active me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337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losing the L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752480"/>
            <a:ext cx="53341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mmarize the key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w enthusiasm for th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scribe how you will follow up (only if you intend 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ank them for their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250922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495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752480"/>
            <a:ext cx="74678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My candidacy offers your staff a well-established work ethic, a vision for the future, and a desire to achieve.  With my experience and enthusiasm, I intend to inspire those with whom I wor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 will contact your office the week of,     May 2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n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, to discuss the possibility of an interview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ank yo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on D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elpful H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828800"/>
            <a:ext cx="800100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atch “I”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wcase accomplishments and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rite to someone if you can (get the inf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ofread Your Wurk; Check Spal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f you said you’d follow up-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O I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mail-What do you thin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LWAY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send with job correspo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j0088870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350532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j0091515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2413080" cy="2935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06668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 GOOD COVER LETTER CAN HELP YOU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419720"/>
            <a:ext cx="441972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TAND </a:t>
            </a:r>
            <a:r>
              <a:rPr b="1" lang="en-US" sz="6500" spc="-1" strike="noStrike">
                <a:solidFill>
                  <a:srgbClr val="000066"/>
                </a:solidFill>
                <a:latin typeface="Arial"/>
              </a:rPr>
              <a:t>ALONE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 A CROW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9092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ver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41911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roduce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ll them on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 your 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ltimate goal: Get them to look at your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E01690_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4290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0" y="1676520"/>
            <a:ext cx="41911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uild an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dentify what they     are looking for and match your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dentify 2 or 3 selling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n’t reiterate resume, ad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j0151825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353040" cy="2057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81080" y="1523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066680"/>
            <a:ext cx="3657600" cy="573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y, ST  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Ms. So and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524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lock Left Format; 12 pt.; Times or Arial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038480"/>
            <a:ext cx="342900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re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r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tt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80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op of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352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ottom of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Paragraph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752480"/>
            <a:ext cx="79246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sentence-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you are writing and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OW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you heard abou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sentence-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you bring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to th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wo or three things that make you the best cand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at’s it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36232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lease consider me for _________ that was advertised in the _________. My _________, ___________, and _________ (2 or 3 skills) make me an ideal candidate for this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&amp; 3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paragrap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362320"/>
            <a:ext cx="784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ell them a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ve that you have what you said in the first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 only talk the talk, but walk the w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876920" y="1600200"/>
            <a:ext cx="3809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best predictor of future performance is what you’ve done in the pas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j032436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19520" y="380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Tell Them a Story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5740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-A-R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752480"/>
            <a:ext cx="77724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Circum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ive them background information on the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 President of Psych Society of the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sychology Department, I had a goal of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creasing members from 35 to 50 by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end of our school sem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4:52:09Z</dcterms:created>
  <dc:creator>Student Services ISU</dc:creator>
  <dc:description/>
  <dc:language>en-US</dc:language>
  <cp:lastModifiedBy>Tyrone Sessom</cp:lastModifiedBy>
  <dcterms:modified xsi:type="dcterms:W3CDTF">2003-05-23T18:08:11Z</dcterms:modified>
  <cp:revision>46</cp:revision>
  <dc:subject/>
  <dc:title>PowerPoint Presentation</dc:title>
</cp:coreProperties>
</file>