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CF7-7E7F-4C42-8C64-7599D93D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13B-C75F-4A52-A688-4B5C318A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FF3-6CFA-4898-9639-A24465A1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56E-9103-484D-B9BC-1D9977D5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531D-1FA9-4190-A3F6-19EA843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B563-2B03-4769-AE7D-5219ED51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87D-CB3A-4698-A723-48548727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8C6-4D0D-42A9-9570-6DBA6F7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3E7-BE38-4570-9C89-6C909336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2115-8093-43D0-B0E4-0ECCF20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B805-54E5-4F7E-B644-B86E132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B34-7B35-4878-AB71-8CDA8BA3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E66-AD8B-4BE8-913E-B78D01A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BF76-D234-4F51-9007-FE9C503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AF39-EF21-449B-9518-D7B0A6A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C3B-2232-473C-B403-B497073B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066-6BFB-463C-8A37-B4A857B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579-3E24-4416-9F81-14C543DC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ECE-E634-444D-A417-392E905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DFB-A40B-49DD-A965-B3E09C20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A34-DD39-4430-A330-82B5CCE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C28-F813-44C7-8ADB-8DE9B8F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06-16B1-4576-9BAA-FC1F5D1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9DB-7237-4BE1-ADD2-44EBDAFA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B33-5B3F-40BE-B516-97002BADA3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ADA-C5E1-4922-9BC0-8C7BD582BE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areer.indstate.edu/yes/options2/A%26S_menu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reer Serv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rone Se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eys To Success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Relate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2464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rds of Wisdo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without a plan is wasted time; A plan without action is merely a dream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do today, where you go, and the people that you deal with have a direct impact on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 you will do tomorrow, where you will go, and the people that you will deal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reer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219320"/>
            <a:ext cx="3124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seling 1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rse is designed to assist you with the career planning process both for this time in your life and for the future as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person will change careers 3-5 times during their life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your dreams to become reality…dare to d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554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ividual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90512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intere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a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some key values to 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personality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strengths and weaknesses in the classro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38760" y="1828800"/>
            <a:ext cx="32148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68580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searching a Major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lk to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som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 some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end Mee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can I do with a major in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ful Information in Selecting an Academic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udents wonder what types of employment are possible with different academic majors. The following links highlight some of the connections between an academic major and a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College of Arts Sciences Maj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Business Maj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Health and Human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Technology Maj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760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-ops and Internship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o-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 Students alternate between full-time, career-related experience and full-time academic stu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Intern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pend a full-time or part-time, career-related work period with an organization. Once the period ends, students return to campus full-ti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-ops and Internsh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l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a State University students are eligible for Internship and Co-op assignments after completing twelve or more semester hours wit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imum of a 2.0 G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.0 sca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tudents may be eligible after one semester on cam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hoto4" descr="Students working at computers"/>
          <p:cNvPicPr/>
          <p:nvPr/>
        </p:nvPicPr>
        <p:blipFill>
          <a:blip r:embed="rId1"/>
          <a:stretch/>
        </p:blipFill>
        <p:spPr>
          <a:xfrm>
            <a:off x="3429000" y="1066680"/>
            <a:ext cx="3505320" cy="2632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Online Posting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3962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: http://www.career.indstate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 down to Internships/Co-ops po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chool that interests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information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66720" y="2278080"/>
            <a:ext cx="6012000" cy="2303280"/>
            <a:chOff x="1566720" y="2278080"/>
            <a:chExt cx="6012000" cy="2303280"/>
          </a:xfrm>
        </p:grpSpPr>
        <p:sp>
          <p:nvSpPr>
            <p:cNvPr id="109" name=""/>
            <p:cNvSpPr/>
            <p:nvPr/>
          </p:nvSpPr>
          <p:spPr>
            <a:xfrm>
              <a:off x="1566720" y="2278080"/>
              <a:ext cx="549108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66720" y="2278080"/>
              <a:ext cx="6012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60600" y="2166840"/>
            <a:ext cx="4224240" cy="2470320"/>
            <a:chOff x="2460600" y="2166840"/>
            <a:chExt cx="4224240" cy="2470320"/>
          </a:xfrm>
        </p:grpSpPr>
        <p:sp>
          <p:nvSpPr>
            <p:cNvPr id="112" name=""/>
            <p:cNvSpPr/>
            <p:nvPr/>
          </p:nvSpPr>
          <p:spPr>
            <a:xfrm>
              <a:off x="246060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0600" y="2166840"/>
              <a:ext cx="422424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87440" y="2166840"/>
            <a:ext cx="6369120" cy="2470320"/>
            <a:chOff x="1387440" y="2166840"/>
            <a:chExt cx="6369120" cy="2470320"/>
          </a:xfrm>
        </p:grpSpPr>
        <p:sp>
          <p:nvSpPr>
            <p:cNvPr id="115" name=""/>
            <p:cNvSpPr/>
            <p:nvPr/>
          </p:nvSpPr>
          <p:spPr>
            <a:xfrm>
              <a:off x="138744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87440" y="2166840"/>
              <a:ext cx="636912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387680"/>
            <a:ext cx="6368760" cy="2470320"/>
            <a:chOff x="2133720" y="4387680"/>
            <a:chExt cx="6368760" cy="2470320"/>
          </a:xfrm>
        </p:grpSpPr>
        <p:sp>
          <p:nvSpPr>
            <p:cNvPr id="118" name=""/>
            <p:cNvSpPr/>
            <p:nvPr/>
          </p:nvSpPr>
          <p:spPr>
            <a:xfrm>
              <a:off x="2133720" y="4387680"/>
              <a:ext cx="422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387680"/>
              <a:ext cx="636876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387440" y="2166840"/>
            <a:ext cx="6369120" cy="2470320"/>
            <a:chOff x="1387440" y="2166840"/>
            <a:chExt cx="6369120" cy="2470320"/>
          </a:xfrm>
        </p:grpSpPr>
        <p:sp>
          <p:nvSpPr>
            <p:cNvPr id="121" name=""/>
            <p:cNvSpPr/>
            <p:nvPr/>
          </p:nvSpPr>
          <p:spPr>
            <a:xfrm>
              <a:off x="138744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87440" y="2166840"/>
              <a:ext cx="636912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60600" y="2166840"/>
            <a:ext cx="4224240" cy="2470320"/>
            <a:chOff x="2460600" y="2166840"/>
            <a:chExt cx="4224240" cy="2470320"/>
          </a:xfrm>
        </p:grpSpPr>
        <p:sp>
          <p:nvSpPr>
            <p:cNvPr id="124" name=""/>
            <p:cNvSpPr/>
            <p:nvPr/>
          </p:nvSpPr>
          <p:spPr>
            <a:xfrm>
              <a:off x="246060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60600" y="2166840"/>
              <a:ext cx="422424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subh-needsucceed" descr="ISU has everything you need to succeed."/>
          <p:cNvPicPr/>
          <p:nvPr/>
        </p:nvPicPr>
        <p:blipFill>
          <a:blip r:embed="rId2"/>
          <a:stretch/>
        </p:blipFill>
        <p:spPr>
          <a:xfrm>
            <a:off x="6934320" y="1066680"/>
            <a:ext cx="220968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lacement Servi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Lette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Inter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ctronic Resu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campus Recr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Vacancy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ing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1942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4:09:14Z</dcterms:created>
  <dc:creator>reslife</dc:creator>
  <dc:description/>
  <dc:language>en-US</dc:language>
  <cp:lastModifiedBy>Tyrone Sessom</cp:lastModifiedBy>
  <dcterms:modified xsi:type="dcterms:W3CDTF">2003-05-19T18:04:13Z</dcterms:modified>
  <cp:revision>9</cp:revision>
  <dc:subject/>
  <dc:title>Career Services</dc:title>
</cp:coreProperties>
</file>