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D29-190B-446F-9FF3-9BA78912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822-D0A9-4490-BDEE-958F05E2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DC6-DEEE-44B5-8CEC-73BC93F7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28F-D068-4CD7-AB75-3120EA1C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8315-EBBF-4638-AA14-8D26FEA9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EDB-D9BC-4CD5-B7A3-C2560A62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A9A5-6984-4B3A-BC4E-2D03250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0271-5B41-4230-893A-9924A534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71DC-C9A3-4755-BF3D-F839EAD8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403D-5CBC-4198-93A7-64E32E65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61EB-872D-4723-93B7-340841D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CA7-F15C-4967-9D96-AECAE23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2136-ED53-4768-87AE-EF0FDCB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B306-1494-443C-AE10-94AFA5D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0914-4FBE-467D-9598-023FC09B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91F-DDE0-4258-A26B-A3CCE0FA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16B5-0595-4A6B-ACB2-FAE02773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68A-77E6-40E4-B7AF-F5C0CCB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F25-9246-46C1-9B07-99ED3447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38D-8702-4590-952A-4BA9F241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CD0-C248-4DA4-879D-975B799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DD5-0D20-4ED0-9970-F3671E8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641-95AC-468A-814A-B5C13D0B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E8B-6FE3-412C-9E80-7BFB5BB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8F7D-4D8A-4434-834E-D45DDBF5D7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E725-DADB-4364-95EB-0C65426026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areer.indstate.edu/yes/options2/A%26S_menu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reer Serv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rone Se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eys To Success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Relate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2464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ords of Wisdo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without a plan is wasted time; A plan without action is merely a dream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do today, where you go, and the people that you deal with have a direct impact on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t you will do tomorrow, where you will go, and the people that you will deal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reer Plann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219320"/>
            <a:ext cx="3124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seling 1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rse is designed to assist you with the career planning process both for this time in your life and for the future as 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person will change careers 3-5 times during their life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your dreams to become reality…dare to d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554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ividual Assess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680" y="190512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your intere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your abil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some key values to 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personality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your strengths and weaknesses in the classro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38760" y="1828800"/>
            <a:ext cx="32148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6858000" cy="556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searching a Major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lk to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some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 some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end Mee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K QUES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can I do with a major in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ful Information in Selecting an Academic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tudents wonder what types of employment are possible with different academic majors. The following links highlight some of the connections between an academic major and a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College of Arts Sciences Maj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of Business Maj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of Health and Human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of Technology Maj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760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5410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-ops and Internships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o-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 Students alternate between full-time, career-related experience and full-time academic stu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Interns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pend a full-time or part-time, career-related work period with an organization. Once the period ends, students return to campus full-ti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-ops and Internship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al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a State University students are eligible for Internship and Co-op assignments after completing twelve or more semester hours wit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imum of a 2.0 G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4.0 sca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tudents may be eligible after one semester on cam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hoto4" descr="Students working at computers"/>
          <p:cNvPicPr/>
          <p:nvPr/>
        </p:nvPicPr>
        <p:blipFill>
          <a:blip r:embed="rId1"/>
          <a:stretch/>
        </p:blipFill>
        <p:spPr>
          <a:xfrm>
            <a:off x="3429000" y="1066680"/>
            <a:ext cx="3505320" cy="2632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Online Posting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39625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: http://www.career.indstate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 down to Internships/Co-ops po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school that interests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information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66720" y="2278080"/>
            <a:ext cx="6012000" cy="2303280"/>
            <a:chOff x="1566720" y="2278080"/>
            <a:chExt cx="6012000" cy="2303280"/>
          </a:xfrm>
        </p:grpSpPr>
        <p:sp>
          <p:nvSpPr>
            <p:cNvPr id="109" name=""/>
            <p:cNvSpPr/>
            <p:nvPr/>
          </p:nvSpPr>
          <p:spPr>
            <a:xfrm>
              <a:off x="1566720" y="2278080"/>
              <a:ext cx="549108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66720" y="2278080"/>
              <a:ext cx="6012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60600" y="2166840"/>
            <a:ext cx="4224240" cy="2470320"/>
            <a:chOff x="2460600" y="2166840"/>
            <a:chExt cx="4224240" cy="2470320"/>
          </a:xfrm>
        </p:grpSpPr>
        <p:sp>
          <p:nvSpPr>
            <p:cNvPr id="112" name=""/>
            <p:cNvSpPr/>
            <p:nvPr/>
          </p:nvSpPr>
          <p:spPr>
            <a:xfrm>
              <a:off x="246060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0600" y="2166840"/>
              <a:ext cx="422424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87440" y="2166840"/>
            <a:ext cx="6369120" cy="2470320"/>
            <a:chOff x="1387440" y="2166840"/>
            <a:chExt cx="6369120" cy="2470320"/>
          </a:xfrm>
        </p:grpSpPr>
        <p:sp>
          <p:nvSpPr>
            <p:cNvPr id="115" name=""/>
            <p:cNvSpPr/>
            <p:nvPr/>
          </p:nvSpPr>
          <p:spPr>
            <a:xfrm>
              <a:off x="138744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87440" y="2166840"/>
              <a:ext cx="636912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4387680"/>
            <a:ext cx="6368760" cy="2470320"/>
            <a:chOff x="2133720" y="4387680"/>
            <a:chExt cx="6368760" cy="2470320"/>
          </a:xfrm>
        </p:grpSpPr>
        <p:sp>
          <p:nvSpPr>
            <p:cNvPr id="118" name=""/>
            <p:cNvSpPr/>
            <p:nvPr/>
          </p:nvSpPr>
          <p:spPr>
            <a:xfrm>
              <a:off x="2133720" y="4387680"/>
              <a:ext cx="422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387680"/>
              <a:ext cx="636876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387440" y="2166840"/>
            <a:ext cx="6369120" cy="2470320"/>
            <a:chOff x="1387440" y="2166840"/>
            <a:chExt cx="6369120" cy="2470320"/>
          </a:xfrm>
        </p:grpSpPr>
        <p:sp>
          <p:nvSpPr>
            <p:cNvPr id="121" name=""/>
            <p:cNvSpPr/>
            <p:nvPr/>
          </p:nvSpPr>
          <p:spPr>
            <a:xfrm>
              <a:off x="138744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87440" y="2166840"/>
              <a:ext cx="636912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60600" y="2166840"/>
            <a:ext cx="4224240" cy="2470320"/>
            <a:chOff x="2460600" y="2166840"/>
            <a:chExt cx="4224240" cy="2470320"/>
          </a:xfrm>
        </p:grpSpPr>
        <p:sp>
          <p:nvSpPr>
            <p:cNvPr id="124" name=""/>
            <p:cNvSpPr/>
            <p:nvPr/>
          </p:nvSpPr>
          <p:spPr>
            <a:xfrm>
              <a:off x="2460600" y="2166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60600" y="2166840"/>
              <a:ext cx="422424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subh-needsucceed" descr="ISU has everything you need to succeed."/>
          <p:cNvPicPr/>
          <p:nvPr/>
        </p:nvPicPr>
        <p:blipFill>
          <a:blip r:embed="rId2"/>
          <a:stretch/>
        </p:blipFill>
        <p:spPr>
          <a:xfrm>
            <a:off x="6934320" y="1066680"/>
            <a:ext cx="220968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lacement Servic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Lette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Inter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ctronic Resu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campus Recr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Vacancy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ruiting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1942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4:09:14Z</dcterms:created>
  <dc:creator>reslife</dc:creator>
  <dc:description/>
  <dc:language>en-US</dc:language>
  <cp:lastModifiedBy>Tyrone Sessom</cp:lastModifiedBy>
  <dcterms:modified xsi:type="dcterms:W3CDTF">2003-05-19T18:04:13Z</dcterms:modified>
  <cp:revision>9</cp:revision>
  <dc:subject/>
  <dc:title>Career Services</dc:title>
</cp:coreProperties>
</file>