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ser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C6E-4266-446B-ABC5-55DB8251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669-2A66-48E1-822B-AF4C7B5F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9AD-4EA1-425F-92C2-94BA7843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6E4-21C3-4CE0-A1CA-84424F5B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C5F4-B1B6-4CC2-936E-46D30DD5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464F-731E-4B54-B8FD-478E4B98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DCDA-6E56-4E05-BC07-7C49FAE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F63-A0F5-46FA-A980-62366801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B91F-D9D7-47A0-9D31-0C190336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4CCE-74F2-4943-8793-AE85986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F49D-A6C3-45D5-B34C-3550856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B08-19C7-47C6-90BE-DFA48BFC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91C0-437A-47F0-9B0D-34A4BE69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2EFB-18FD-4D9B-AB4B-191964C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C25B-467B-40EC-8C59-CF152B4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ACB4-B125-49F8-B878-904B1157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2B52-5434-45D5-9297-9D0EA6A2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05A-2DAC-4BDB-A2EC-B69C63FD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A91-F143-4C35-A01F-D13C8D3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454-DC4B-4630-9425-18508002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847-C98E-497D-AE53-85E58D4C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0EC-4F97-41C9-A307-675DB492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E3A-951D-4EF2-B2A9-A13418A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8B6-D495-4200-A35E-36C7C9D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326-D500-40DC-AA96-57A31899F4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8E2C-53FE-4812-90EF-1CA387BAC51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header001b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04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0560" y="685800"/>
            <a:ext cx="490536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audrey%2520princes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8600"/>
            <a:ext cx="4724280" cy="64008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ront2-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8006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udrey_greenmansions_rim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45720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3:03:36Z</dcterms:created>
  <dc:creator>Patruni</dc:creator>
  <dc:description/>
  <dc:language>en-US</dc:language>
  <cp:lastModifiedBy>Patruni</cp:lastModifiedBy>
  <dcterms:modified xsi:type="dcterms:W3CDTF">2002-03-26T03:32:03Z</dcterms:modified>
  <cp:revision>3</cp:revision>
  <dc:subject/>
  <dc:title>PowerPoint Presentation</dc:title>
</cp:coreProperties>
</file>