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laser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2A3-0488-443E-9CC0-43854DC1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40B7-33E3-4BC9-8A6E-C8788D0B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66F7-A31F-438A-95F6-F06FE49F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D3E-D8CD-41F1-97D9-DE5EF196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349E-1743-46B6-8476-C63AA6BA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108C-6E44-4B62-9B96-88467B7F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5545-6E94-454A-A5B8-2B9FE24A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CEE1-57BA-46A7-AF3A-B6FB5420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CBDB-2160-4283-9E6B-E8EBE315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8B9D-E67E-48C8-87AE-48635E3A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E726-BF4E-4173-A272-72D3BE78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E066-EA0C-40B4-8A0D-6284DED8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F376-7E75-4583-86AE-B3EE0A4D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5045-D2A8-49A3-BF90-EDC23F52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FCB5-7D78-4E52-867C-6D5A128D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3A6E-BB36-482D-8653-B5AA6D60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8666-6DB0-405E-BBD2-64CC6CFC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DDA-FA46-45BC-8E39-2005E106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E06-EB79-4E48-96EC-AD48F091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E04B-60F8-4C21-A875-93FAB276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ACFC-DB44-4B95-8B90-C20E1024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6C7-CC36-47FB-A8C4-E532E07A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1B9C-8B78-4102-A1CF-E97869B2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E2F7-A43B-468A-9A5F-DF0E54F9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D4A1-0AAF-4A50-9EA4-D6EB373D611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782A-485D-4265-9192-D65303602F3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lass.wav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lass.wav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lass.wav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lass.wav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header001b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5248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  <p:sndAc>
      <p:stSnd>
        <p:snd r:embed="rId3" name="las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04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30560" y="685800"/>
            <a:ext cx="4905360" cy="571500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  <p:sndAc>
      <p:stSnd>
        <p:snd r:embed="rId3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audrey%2520princes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228600"/>
            <a:ext cx="4724280" cy="640080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  <p:sndAc>
      <p:stSnd>
        <p:snd r:embed="rId3" name="las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ront2-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762120"/>
            <a:ext cx="4800600" cy="548640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  <p:sndAc>
      <p:stSnd>
        <p:snd r:embed="rId3" name="las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audrey_greenmansions_rima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457200"/>
            <a:ext cx="4343400" cy="571500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  <p:sndAc>
      <p:stSnd>
        <p:snd r:embed="rId3" name="las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03:03:36Z</dcterms:created>
  <dc:creator>Patruni</dc:creator>
  <dc:description/>
  <dc:language>en-US</dc:language>
  <cp:lastModifiedBy>Patruni</cp:lastModifiedBy>
  <dcterms:modified xsi:type="dcterms:W3CDTF">2002-03-26T03:32:03Z</dcterms:modified>
  <cp:revision>3</cp:revision>
  <dc:subject/>
  <dc:title>PowerPoint Presentation</dc:title>
</cp:coreProperties>
</file>