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7.png" ContentType="image/png"/>
  <Override PartName="/ppt/media/image1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AFB-5C4D-42F9-B244-C3D2BD6B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ECD-8A15-42B0-B4C7-6BF8472D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935-20A2-4A78-BEDF-65D8250B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165-C19F-43A1-8967-FD999532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C274-1D85-4309-857F-BA908817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64D4-616A-4163-A887-60E94A6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8B58-0137-4D54-97C8-3BC46847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4AD9-7A99-4487-AF5B-284DDE70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F006-6C69-4405-A66E-A47EF3EA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DE47-869A-40FA-8DED-CBD98B52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0E72-3DEB-4DB2-B566-1383C6B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026-C5EA-487F-A9C1-B8B52CBD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BB96-D760-42CA-8A95-960D509A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10D4-0925-44C6-897C-EEDD59C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AE2B-5E23-45C8-AB85-13C1354E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6B5E-67E2-45B0-919D-EEB8E2D7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58C7-F084-4C9C-BFBB-6F7F0E34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1F4-17C7-4EE7-A1F1-0A2EC9CC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374-7299-4F8E-9A4F-BDE6B47A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497-8BB8-458B-BFAF-0B228223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A8D-AE2C-4A44-A9D1-EB3FE4FF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521-2D80-4761-A5F0-7B57A1D0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6D7-4C07-4D62-BC1D-C46B7A3B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D23-767F-43FA-993B-6D722B02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1FE2-760B-48FC-8F36-0A835A57160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3754-B5D3-4E79-BC19-419AE63EF06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dhubal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nus of Bollyw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2151000"/>
            <a:ext cx="3809880" cy="377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769240" y="648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52480" y="2133720"/>
            <a:ext cx="6172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943600" cy="5565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5943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486400" cy="6019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9132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471600"/>
            <a:ext cx="7162560" cy="58528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334120" cy="58672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790560"/>
            <a:ext cx="6095880" cy="5533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35080" y="380880"/>
            <a:ext cx="5356440" cy="5943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281560" cy="63244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5029200" cy="58672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24:35Z</dcterms:created>
  <dc:creator>Student Support Services</dc:creator>
  <dc:description/>
  <dc:language>en-US</dc:language>
  <cp:lastModifiedBy>Student Support Services</cp:lastModifiedBy>
  <dcterms:modified xsi:type="dcterms:W3CDTF">2001-01-23T17:04:35Z</dcterms:modified>
  <cp:revision>3</cp:revision>
  <dc:subject/>
  <dc:title>Madhubala</dc:title>
</cp:coreProperties>
</file>