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CHIMES.WAV" ContentType="audio/x-wav"/>
  <Override PartName="/ppt/media/image7.png" ContentType="image/png"/>
  <Override PartName="/ppt/media/image1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B831-B973-42C5-B9C2-7FC386D43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21F7-2650-47EA-A9F0-31C7565B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DA28-A654-46FE-9822-344BFBE3D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6BC0-EDF0-426F-A2F9-E09BF541F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A66E-71D4-4D0C-A858-16220F3A6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41CC-F771-48AE-B499-FE9F45B2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B7D0-66A0-4516-A688-BF439F4F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0F93-7B29-4D20-832A-A12A3D9A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0F1E-22B3-4474-9C48-B14B5AB1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2452-F480-4121-A726-8F2A0592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FF35-C369-4099-9ADA-FB29C76A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0877-D17C-41E0-9482-2B6BF736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C2E7-F2E9-41AC-ABAF-06E56596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F630-6368-4DCC-AA1D-3CC1B026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89E4-236B-4F2E-B35D-D1D33A78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114B-9205-4C1F-B7E5-B3ED65074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37F3-7935-4B4F-B953-A6625BB56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D532-17FE-4CCC-A3EE-42120017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6D30-D3FE-47A9-BBEC-D00F2328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DDE8-C7E7-4425-A4AA-00417374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FCBB-CC77-40EF-A105-601DE7A8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F887-E5C7-4BEF-9921-009D37EA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D58F-E343-412F-A358-3B769923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879F-9680-4F25-85EB-771FFF6E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E6F7-D44D-46B9-BE4C-49848EECCF8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229F-CD7A-4D6E-87AF-E356946236B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adhubal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enus of Bollywoo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48320" y="2151000"/>
            <a:ext cx="3809880" cy="3774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769240" y="6483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752480" y="2133720"/>
            <a:ext cx="6172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943600" cy="55656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391520" cy="59436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5486400" cy="601992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52480" y="457200"/>
            <a:ext cx="5791320" cy="61722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90720" y="471600"/>
            <a:ext cx="7162560" cy="585288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828800" y="457200"/>
            <a:ext cx="5334120" cy="586728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47920" y="790560"/>
            <a:ext cx="6095880" cy="553392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035080" y="380880"/>
            <a:ext cx="5356440" cy="59436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5281560" cy="632448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133720" y="533520"/>
            <a:ext cx="5029200" cy="586728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8:24:35Z</dcterms:created>
  <dc:creator>Student Support Services</dc:creator>
  <dc:description/>
  <dc:language>en-US</dc:language>
  <cp:lastModifiedBy>Student Support Services</cp:lastModifiedBy>
  <dcterms:modified xsi:type="dcterms:W3CDTF">2001-01-23T17:04:35Z</dcterms:modified>
  <cp:revision>3</cp:revision>
  <dc:subject/>
  <dc:title>Madhubala</dc:title>
</cp:coreProperties>
</file>