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2FC-CD25-4C61-9272-BBFD463D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878-1D0F-4CFA-AAEE-C739E019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0C4-C89A-43CC-B423-D2338A34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182-085E-42C1-8F97-088D5184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F8A0-D5C2-42FF-A535-B67986E0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C480-1946-4367-9E0F-4D97EEA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A1CF-5A47-4FC1-B6A9-A6FE3CDA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BE5F-E634-4F8F-909C-9C753E69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67B5-3DDE-4212-B1DA-218EAA05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D904-CC3A-4657-B68C-395C4012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4E4F-7935-4109-82F5-934B5328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681-2DD4-4394-AA78-3064ABF2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1A97-9176-4960-A652-EB40B01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42B8-4A99-4841-9234-D8C70BB9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4795-6773-4C1E-88B6-FC326FC9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9F69-1912-4D2E-A1DA-1185EFD5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93EF-964C-492F-88BA-D85D6845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633-8FD1-4860-8A03-784AC25D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19F-2CB5-4147-9ECE-47A98902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29A-9584-47A2-B5E8-7830D614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8A7-1521-45EE-96B2-6DF3848D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752-E9DA-4677-9E9A-9EA73CC0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708-54F2-4290-B62F-D8385D0F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02F-E85D-4ABB-9FBC-16F89A56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8C20-4B0C-4A04-B4A0-D17EA698623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9780-B453-41A5-AFC2-4B00061445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egory Pec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ar of the            Millenniu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03720" y="1981080"/>
            <a:ext cx="2898720" cy="41148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98640" y="0"/>
            <a:ext cx="556884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934320" cy="670572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63244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24280" cy="63244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486400" cy="609624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20:41:17Z</dcterms:created>
  <dc:creator>Student Support Services</dc:creator>
  <dc:description/>
  <dc:language>en-US</dc:language>
  <cp:lastModifiedBy>Student Support Services</cp:lastModifiedBy>
  <dcterms:modified xsi:type="dcterms:W3CDTF">2001-01-23T20:52:17Z</dcterms:modified>
  <cp:revision>1</cp:revision>
  <dc:subject/>
  <dc:title>Gregory Peck</dc:title>
</cp:coreProperties>
</file>