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643-695C-41F7-A2D9-AF1AFB66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2F6-7F4E-4365-BBF8-C0C685FE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89D-1D03-4048-A0B4-1DC8DB8F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ED1-CB88-4462-BE89-E4C5FC57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BAC-8828-4A79-88DA-233C098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37C-1E81-4B2B-ACCD-41A4BA72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692-F3B0-4AAF-84F3-98C01CA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F72-7F61-42E3-AB4E-7B478DA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D3-C26C-4C69-9C2D-729B7F9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6B1-AC3B-4B82-8E0B-A7B3681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01D-5329-4E95-A070-FD40D2B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22F-1A46-44C3-81E3-EBFDE14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8AD-6544-4E01-A75E-8CDADF5E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6019920"/>
            <a:ext cx="43434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rani Cre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2:31:34Z</dcterms:created>
  <dc:creator>Anu</dc:creator>
  <dc:description/>
  <dc:language>en-US</dc:language>
  <cp:lastModifiedBy>Archana Karukonda</cp:lastModifiedBy>
  <dcterms:modified xsi:type="dcterms:W3CDTF">2002-06-03T23:25:58Z</dcterms:modified>
  <cp:revision>8</cp:revision>
  <dc:subject/>
  <dc:title>No Slide Title</dc:title>
</cp:coreProperties>
</file>