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12D-A04B-4FE0-A4B5-E734C120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885-3B68-4CA4-9BA8-7011EA8F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9F3-5248-4D61-BDF6-DBCBB017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EBE-4297-4BCD-B79C-F08DEE7C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D95-F4A5-4CB5-B5D2-EC9924EC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FBC-AAEC-4F19-950E-51CEE68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27F-98FB-4363-83D7-C49D0441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19B-BBE3-4FBE-B994-404C8B19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FEF-0357-493F-BED5-0C4E3151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3C6-9E1C-467B-B1D0-BD9F8F4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AE9-78F0-4047-B4C2-291D9E0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1CD-8804-4F27-9069-55CA76F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9CC-9BE6-448F-88C9-A6AB3980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6019920"/>
            <a:ext cx="43434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rani Cre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2:31:34Z</dcterms:created>
  <dc:creator>Anu</dc:creator>
  <dc:description/>
  <dc:language>en-US</dc:language>
  <cp:lastModifiedBy>Archana Karukonda</cp:lastModifiedBy>
  <dcterms:modified xsi:type="dcterms:W3CDTF">2002-06-03T23:25:58Z</dcterms:modified>
  <cp:revision>8</cp:revision>
  <dc:subject/>
  <dc:title>No Slide Title</dc:title>
</cp:coreProperties>
</file>