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0BB-80AD-4757-814F-EA18C708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05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FBE-CAB6-444E-B9E9-3160551D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05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F17-6661-4FF5-939D-ECC06E9D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05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005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0053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7B0-7197-4A83-BF5A-810AD19D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C79-AD37-49E0-ACF0-E5FADB07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7B8-646A-46B9-9691-2D0A28FE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44A-E4C4-4C94-B7F7-5E628B34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A15-5A1B-46BF-87BB-639B5285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EBE-7A0D-4F73-A3F3-19DAF257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1AF-C98C-4266-B147-5D02F989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053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CDB-2646-4DF8-9AC4-D954F457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053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EAC-378B-45EC-B312-E98FDA33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534160" cy="533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C85C-7C53-4196-8C09-B6D2E47C6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057400"/>
            <a:ext cx="8915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ff"/>
                </a:solidFill>
                <a:latin typeface="Bradley Hand ITC"/>
              </a:rPr>
              <a:t>INSTRUCTIONS FOR YOUR LIFE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buClr>
                <a:srgbClr val="000000"/>
              </a:buClr>
              <a:buSzPct val="130000"/>
              <a:buFont typeface="Wingdings" charset="2"/>
              <a:buChar char="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Eat lots of rye rice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66ccff"/>
              </a:buClr>
              <a:buSzPct val="130000"/>
              <a:buFont typeface="Webdings" charset="2"/>
              <a:buChar char="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Give people more than what they want, and do it with all your heart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ccccff"/>
              </a:buClr>
              <a:buSzPct val="130000"/>
              <a:buFont typeface="Wingdings" charset="2"/>
              <a:buChar char="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Memorize your favorite poem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ccccff"/>
              </a:buClr>
              <a:buSzPct val="130000"/>
              <a:buFont typeface="Webdings" charset="2"/>
              <a:buChar char="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Do not believe everything you hear, do not spend all you have, and do not sleep for as long as you wish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SzPct val="130000"/>
              <a:buFont typeface="Webdings" charset="2"/>
              <a:buChar char="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Whenever you say “I love You”, mean it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6ccff"/>
              </a:buClr>
              <a:buSzPct val="130000"/>
              <a:buFont typeface="Webdings" charset="2"/>
              <a:buChar char="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2600" spc="-1" strike="noStrike">
                <a:solidFill>
                  <a:srgbClr val="ccccff"/>
                </a:solidFill>
                <a:latin typeface="Times New Roman"/>
              </a:rPr>
              <a:t>Whenever you say “I’m sorry”, look the person right in the eyes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30000"/>
              <a:buFont typeface="Webdings" charset="2"/>
              <a:buChar char="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Believe in love at first sight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6ccff"/>
              </a:buClr>
              <a:buSzPct val="130000"/>
              <a:buFont typeface="Webdings" charset="2"/>
              <a:buChar char="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Never ignore someone’s dreams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ccff"/>
              </a:buClr>
              <a:buSzPct val="130000"/>
              <a:buFont typeface="Webdings" charset="2"/>
              <a:buChar char="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Love deeply and passionately, you may get hurt, but this is the only way to live life completely. 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99ff33"/>
              </a:buClr>
              <a:buSzPct val="130000"/>
              <a:buFont typeface="Webdings" charset="2"/>
              <a:buChar char="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Tackle any disagreements in a clean manner, do not offend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Wingdings" charset="2"/>
              <a:buChar char="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Never judge a person based on their relatives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99ff33"/>
              </a:buClr>
              <a:buFont typeface="Webdings" charset="2"/>
              <a:buChar char="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Speak slowly, but think fast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30000"/>
              <a:buFont typeface="Wingdings" charset="2"/>
              <a:buChar char="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Whenever someone asks you something you don’t want to answer, smile and ask “why do you want to know”?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6ccff"/>
              </a:buClr>
              <a:buSzPct val="130000"/>
              <a:buFont typeface="Webdings" charset="2"/>
              <a:buChar char="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Remember that the deepest love and the greatest achievements are the ones bearing the most risk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99ff33"/>
              </a:buClr>
              <a:buSzPct val="130000"/>
              <a:buFont typeface="Webdings" charset="2"/>
              <a:buChar char="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Call your mother. If you can’t, at least think of her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30000"/>
              <a:buFont typeface="Webdings" charset="2"/>
              <a:buChar char="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Say “Bless you” whenever someone sneezes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SzPct val="130000"/>
              <a:buFont typeface="Wingdings" charset="2"/>
              <a:buChar char="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If you happen to loose, do not miss the lesson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06768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5000"/>
              </a:lnSpc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SzPct val="130000"/>
              <a:buFont typeface="Webdings" charset="2"/>
              <a:buChar char="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Remember the 3 R’s: Respect yourself,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SzPct val="130000"/>
              <a:buFont typeface="Webdings" charset="2"/>
              <a:buChar char="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Respect everyone else, and be Responsible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SzPct val="130000"/>
              <a:buFont typeface="Webdings" charset="2"/>
              <a:buChar char="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for all of your actions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SzPct val="130000"/>
              <a:buFont typeface="Webdings" charset="2"/>
              <a:buChar char="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Do not allow a little dispute to put an end to      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66ccff"/>
              </a:buClr>
              <a:buSzPct val="130000"/>
              <a:buFont typeface="Wingdings" charset="2"/>
              <a:buChar char="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a great friendship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ff33"/>
              </a:buClr>
              <a:buSzPct val="130000"/>
              <a:buFont typeface="Webdings" charset="2"/>
              <a:buChar char="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Whenever you notice you’ve made a mistake, do all what is  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ff33"/>
              </a:buClr>
              <a:buSzPct val="130000"/>
              <a:buFont typeface="Webdings" charset="2"/>
              <a:buChar char="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necessary to fix it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ff33"/>
              </a:buClr>
              <a:buSzPct val="130000"/>
              <a:buFont typeface="Webdings" charset="2"/>
              <a:buChar char="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Immediately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66ffff"/>
              </a:buClr>
              <a:buSzPct val="130000"/>
              <a:buFont typeface="Wingdings" charset="2"/>
              <a:buChar char="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Smile whenever you pick up the phone, for the caller will be able to notice it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SzPct val="130000"/>
              <a:buFont typeface="Webdings" charset="2"/>
              <a:buChar char="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Marry to a person that likes to chat,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00"/>
              </a:buClr>
              <a:buSzPct val="130000"/>
              <a:buFont typeface="Webdings" charset="2"/>
              <a:buChar char="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pt-BR" sz="3000" spc="-1" strike="noStrike">
                <a:solidFill>
                  <a:srgbClr val="ccccff"/>
                </a:solidFill>
                <a:latin typeface="Times New Roman"/>
              </a:rPr>
              <a:t>for when your old age comes, chatting will be one of the best qualities you can find in someone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534160" cy="655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buClr>
                <a:srgbClr val="99ff33"/>
              </a:buClr>
              <a:buSzPct val="135000"/>
              <a:buFont typeface="Webdings" charset="2"/>
              <a:buChar char="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Spend sometime alone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6ffff"/>
              </a:buClr>
              <a:buSzPct val="135000"/>
              <a:buFont typeface="Webdings" charset="2"/>
              <a:buChar char="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Embrace changes, but do not repudiate your own values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35000"/>
              <a:buFont typeface="Webdings" charset="2"/>
              <a:buChar char="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Remember that sometimes silence is the best answer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ccff"/>
              </a:buClr>
              <a:buSzPct val="135000"/>
              <a:buFont typeface="Wingdings" charset="2"/>
              <a:buChar char="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Read more books and watch less TV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6ccff"/>
              </a:buClr>
              <a:buSzPct val="145000"/>
              <a:buFont typeface="Webdings" charset="2"/>
              <a:buChar char="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Lead a good and honest life. Like this, when you are old and remember the past, you will see how you can enjoy it all once again. 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45000"/>
              <a:buFont typeface="Webdings" charset="2"/>
              <a:buChar char="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Trust GOD, but lock your car well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534160" cy="632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buClr>
                <a:srgbClr val="ffff00"/>
              </a:buClr>
              <a:buSzPct val="130000"/>
              <a:buFont typeface="Webdings" charset="2"/>
              <a:buChar char="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A good atmosphere in your home is important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ccff"/>
              </a:buClr>
              <a:buSzPct val="130000"/>
              <a:buFont typeface="Webdings" charset="2"/>
              <a:buChar char="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Do whatever is possible to keep your home peaceful and harmonious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30000"/>
              <a:buFont typeface="Webdings" charset="2"/>
              <a:buChar char="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If you have a quarrel with someone close to you, try to solve only the present issue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66ccff"/>
              </a:buClr>
              <a:buSzPct val="130000"/>
              <a:buFont typeface="Webdings" charset="2"/>
              <a:buChar char="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Do not revolve the past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30000"/>
              <a:buFont typeface="Webdings" charset="2"/>
              <a:buChar char="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Read inbetween the lines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99ff33"/>
              </a:buClr>
              <a:buSzPct val="130000"/>
              <a:buFont typeface="Webdings" charset="2"/>
              <a:buChar char="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Share your knowledge. It’s a way of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99ff33"/>
              </a:buClr>
              <a:buSzPct val="130000"/>
              <a:buFont typeface="Webdings" charset="2"/>
              <a:buChar char="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achieving immortality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76320"/>
            <a:ext cx="8686800" cy="632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buClr>
                <a:srgbClr val="66ffff"/>
              </a:buClr>
              <a:buSzPct val="130000"/>
              <a:buFont typeface="Webdings" charset="2"/>
              <a:buChar char="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Be gentle towards our Planet...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30000"/>
              <a:buFont typeface="Webdings" charset="2"/>
              <a:buChar char="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Do not block mother nature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99ff33"/>
              </a:buClr>
              <a:buSzPct val="130000"/>
              <a:buFont typeface="Webdings" charset="2"/>
              <a:buChar char="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Keep yourself busy only with your own matters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ffcc"/>
              </a:buClr>
              <a:buSzPct val="130000"/>
              <a:buFont typeface="Webdings" charset="2"/>
              <a:buChar char="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Do not trust a partner that never closes his / her eyes when kissing you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30000"/>
              <a:buFont typeface="Webdings" charset="2"/>
              <a:buChar char="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At least once a year, visit somewhere you have never been to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99ff33"/>
              </a:buClr>
              <a:buSzPct val="130000"/>
              <a:buFont typeface="Webdings" charset="2"/>
              <a:buChar char="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3000" spc="-1" strike="noStrike">
                <a:solidFill>
                  <a:srgbClr val="ffccff"/>
                </a:solidFill>
                <a:latin typeface="Times New Roman"/>
              </a:rPr>
              <a:t>If you make lots of money, do some charity while alive. That’s the best reward fortune can provide you with.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4582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646560" indent="-646560">
              <a:lnSpc>
                <a:spcPct val="80000"/>
              </a:lnSpc>
              <a:buClr>
                <a:srgbClr val="66ffff"/>
              </a:buClr>
              <a:buSzPct val="130000"/>
              <a:buFont typeface="Wingdings" charset="2"/>
              <a:buChar char="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ccff"/>
                </a:solidFill>
                <a:latin typeface="Times New Roman"/>
              </a:rPr>
              <a:t>Remember that sometimes an under-achievement is good luck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6560" indent="0">
              <a:lnSpc>
                <a:spcPct val="8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6560" indent="-646560">
              <a:lnSpc>
                <a:spcPct val="80000"/>
              </a:lnSpc>
              <a:buClr>
                <a:srgbClr val="ffff00"/>
              </a:buClr>
              <a:buSzPct val="130000"/>
              <a:buFont typeface="Wingdings" charset="2"/>
              <a:buChar char="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pt-BR" sz="2600" spc="-1" strike="noStrike">
                <a:solidFill>
                  <a:srgbClr val="ffccff"/>
                </a:solidFill>
                <a:latin typeface="Times New Roman"/>
              </a:rPr>
              <a:t>Learn well all the rules, so as to know how to break them in the proper manner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6560" indent="0">
              <a:lnSpc>
                <a:spcPct val="8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6560" indent="-646560">
              <a:lnSpc>
                <a:spcPct val="80000"/>
              </a:lnSpc>
              <a:buClr>
                <a:srgbClr val="ff0000"/>
              </a:buClr>
              <a:buSzPct val="130000"/>
              <a:buFont typeface="Webdings" charset="2"/>
              <a:buChar char="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ccff"/>
                </a:solidFill>
                <a:latin typeface="Times New Roman"/>
              </a:rPr>
              <a:t>Remember: the best relationship is the one where the love of one for another matters more than the need to be with each other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6560" indent="0">
              <a:lnSpc>
                <a:spcPct val="8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6560" indent="-646560">
              <a:lnSpc>
                <a:spcPct val="80000"/>
              </a:lnSpc>
              <a:buClr>
                <a:srgbClr val="ffff00"/>
              </a:buClr>
              <a:buSzPct val="130000"/>
              <a:buFont typeface="Webdings" charset="2"/>
              <a:buChar char="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2600" spc="-1" strike="noStrike">
                <a:solidFill>
                  <a:srgbClr val="ffccff"/>
                </a:solidFill>
                <a:latin typeface="Times New Roman"/>
              </a:rPr>
              <a:t>Judge your level of success from what you have had to renounce to achieve it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6560" indent="0">
              <a:lnSpc>
                <a:spcPct val="80000"/>
              </a:lnSpc>
              <a:buNone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6560" indent="-646560">
              <a:lnSpc>
                <a:spcPct val="80000"/>
              </a:lnSpc>
              <a:buClr>
                <a:srgbClr val="99ff33"/>
              </a:buClr>
              <a:buSzPct val="130000"/>
              <a:buFont typeface="Wingdings" charset="2"/>
              <a:buChar char="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i="1" lang="pt-BR" sz="2600" spc="-1" strike="noStrike">
                <a:solidFill>
                  <a:srgbClr val="ffccff"/>
                </a:solidFill>
                <a:latin typeface="Times New Roman"/>
              </a:rPr>
              <a:t>Face Love and cooking with absolute commitment, not expecting too much in return.</a:t>
            </a:r>
            <a:endParaRPr b="1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30T22:46:36Z</dcterms:created>
  <dc:creator>Ana Alarcón (Alarcon_ana@yahoo.com)</dc:creator>
  <dc:description/>
  <dc:language>en-US</dc:language>
  <cp:lastModifiedBy>FCRC_TSH1</cp:lastModifiedBy>
  <dcterms:modified xsi:type="dcterms:W3CDTF">2002-06-13T18:29:31Z</dcterms:modified>
  <cp:revision>11</cp:revision>
  <dc:subject/>
  <dc:title>Este TANDRA ha llegado desde la india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eus documento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