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380-C1A0-43E2-91E8-F098D04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B14-B8A4-430A-8EE8-B6BD7254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293-C786-41D0-89CF-80DC4557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A8D-BCEC-49C1-80C8-C238E78A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4CC-178B-412C-AD52-8DEEA95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C69-C061-4D97-81E8-BC9C331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5AA-6EFF-4E86-8AE2-0CD75F5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144-0287-492C-A78A-E4C0E80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927-391C-4044-A65C-7AD8D0A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E21-4C5B-4094-8CF3-2BE9767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5AB-2B33-4C86-8C5D-9284728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99B-7647-47A6-B375-A9CE871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DA8-AA35-45BA-982E-1E10BB2F7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4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4040" y="40644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Sometimes when you love someone very mu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you have to go through every te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every heartache and every pain. Because in the 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it’s not how you love but how much you hold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7275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1120" y="514440"/>
            <a:ext cx="583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Real true love is having all the things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but still having a special way to love despi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all the wrong things that had happe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Learn to forgive and love agai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430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02600" y="838080"/>
            <a:ext cx="664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‘</a:t>
            </a: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Listen’ contains the same letters as ‘silent.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Listen to the silence of the heart, hear what it s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so you’ll know what will make you happ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8822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080" y="4648320"/>
            <a:ext cx="490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ife is a series of ste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ach step leads to joyful surpri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nd some with happy conclu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et the love in your heart be y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uide as you step to your full potent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800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5257800"/>
            <a:ext cx="8305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Everyone must learn to be patient with loneli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Happiness begins from within. If we can’t tol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being alone, it’s more likely that we haven’t f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happiness y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771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4724280"/>
            <a:ext cx="57913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metimes, things change, plans fail, joy fades and excitements 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ou begin to ask why. But when you look above, all worries depart. God is always there for yo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50160" y="6248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Rei_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6858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re’s a danger in loving somebody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6040" y="739152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it’s sad when you know it’s your heart you can’t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7848720"/>
            <a:ext cx="65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re’s a reason why people don’t say who the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8381880"/>
            <a:ext cx="51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ybe sometimes love just ain’t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7960" y="304812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ybe sometimes love just ain’t en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4:05:31Z</dcterms:created>
  <dc:creator>Gaspar Cruz</dc:creator>
  <dc:description/>
  <dc:language>en-US</dc:language>
  <cp:lastModifiedBy>Gaspar Cruz</cp:lastModifiedBy>
  <dcterms:modified xsi:type="dcterms:W3CDTF">2001-06-01T07:50:03Z</dcterms:modified>
  <cp:revision>5</cp:revision>
  <dc:subject/>
  <dc:title>PowerPoint Presentation</dc:title>
</cp:coreProperties>
</file>