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393-185D-4598-BA7B-3CD7C957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125-8609-4A64-AB77-014B8304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757-CF85-4FA6-B9AE-6559E78A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D90-2D51-4372-8D1C-A70E1C3C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895-4E9B-4FE9-8645-6EEF8CE2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EE2-13DB-4D1F-9AE9-68DE7C2E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815-AD3B-4CA3-8ADE-EA1AEECD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D35-BAD1-475D-967A-73F2B22E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22F-B0BA-4EB3-93C4-21F9C12C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233-6582-42F7-AFD6-B6D240DD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A758-C6A6-4D27-A6ED-4C268171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349-B693-4E80-8C7B-AD8268EC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39A8-3ADE-4C2D-9373-95209EC7B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214_posterpreview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34040" y="406440"/>
            <a:ext cx="54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ecff"/>
                </a:solidFill>
                <a:latin typeface="Century Gothic"/>
              </a:rPr>
              <a:t>Sometimes when you love someone very much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ecff"/>
                </a:solidFill>
                <a:latin typeface="Century Gothic"/>
              </a:rPr>
              <a:t>you have to go through every tea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ecff"/>
                </a:solidFill>
                <a:latin typeface="Century Gothic"/>
              </a:rPr>
              <a:t>every heartache and every pain. Because in the en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ecff"/>
                </a:solidFill>
                <a:latin typeface="Century Gothic"/>
              </a:rPr>
              <a:t>it’s not how you love but how much you hold 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7275_posterpreview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1120" y="514440"/>
            <a:ext cx="5831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ook Antiqua"/>
              </a:rPr>
              <a:t>Real true love is having all the things go wro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ook Antiqua"/>
              </a:rPr>
              <a:t>but still having a special way to love despit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ook Antiqua"/>
              </a:rPr>
              <a:t>all the wrong things that had happe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Book Antiqua"/>
              </a:rPr>
              <a:t>Learn to forgive and love agai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8430_posterpreview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02600" y="838080"/>
            <a:ext cx="664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Garamond"/>
              </a:rPr>
              <a:t>‘</a:t>
            </a:r>
            <a:r>
              <a:rPr b="1" lang="en-US" sz="2000" spc="-1" strike="noStrike">
                <a:solidFill>
                  <a:srgbClr val="ccecff"/>
                </a:solidFill>
                <a:latin typeface="Garamond"/>
              </a:rPr>
              <a:t>Listen’ contains the same letters as ‘silent.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Garamond"/>
              </a:rPr>
              <a:t>Listen to the silence of the heart, hear what it s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Garamond"/>
              </a:rPr>
              <a:t>so you’ll know what will make you happ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0" y="180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18822_posterpreview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080" y="4648320"/>
            <a:ext cx="490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Life is a series of step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Each step leads to joyful surpri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and some with happy conclus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Let the love in your heart be y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guide as you step to your full potent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0800_posterpreview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5257800"/>
            <a:ext cx="83055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Bookman Old Style"/>
              </a:rPr>
              <a:t>Everyone must learn to be patient with lonelin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Bookman Old Style"/>
              </a:rPr>
              <a:t>Happiness begins from within. If we can’t tole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Bookman Old Style"/>
              </a:rPr>
              <a:t>being alone, it’s more likely that we haven’t f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Bookman Old Style"/>
              </a:rPr>
              <a:t>happiness ye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3771_posterpreview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4724280"/>
            <a:ext cx="57913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metimes, things change, plans fail, joy fades and excitements 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ou begin to ask why. But when you look above, all worries depart. God is always there for you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850160" y="62485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ff"/>
                </a:solidFill>
                <a:latin typeface="Times New Roman"/>
              </a:rPr>
              <a:t>Rei_g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2480" y="6858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ere’s a danger in loving somebody too m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86040" y="7391520"/>
            <a:ext cx="73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d it’s sad when you know it’s your heart you can’t 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7848720"/>
            <a:ext cx="653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ere’s a reason why people don’t say who they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8381880"/>
            <a:ext cx="51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ybe sometimes love just ain’t en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27960" y="3048120"/>
            <a:ext cx="52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ybe sometimes love just ain’t en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4:05:31Z</dcterms:created>
  <dc:creator>Gaspar Cruz</dc:creator>
  <dc:description/>
  <dc:language>en-US</dc:language>
  <cp:lastModifiedBy>Gaspar Cruz</cp:lastModifiedBy>
  <dcterms:modified xsi:type="dcterms:W3CDTF">2001-06-01T07:50:03Z</dcterms:modified>
  <cp:revision>5</cp:revision>
  <dc:subject/>
  <dc:title>PowerPoint Presentation</dc:title>
</cp:coreProperties>
</file>