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E94-982C-4F27-9D43-D13C48EF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CA04-A525-488B-B08A-3504AFC6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755-885F-4AFB-9D34-2056A334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02B-6D72-4A4A-8782-14300BD9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794-B3B4-4F9F-8B35-66EE5EF6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7CF-C973-45E3-9E40-6530B7F5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151-0DEB-47A6-8C38-869F6A84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552-6AC3-479E-85A0-D2D076C6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669-7A3A-42C8-AA95-F5C02728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F28-5366-4D27-B9F3-1496ED3F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B05-05B7-48DB-82E1-81D96E04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E26-78D3-4DC2-8F74-FEA7377E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B1C1-1C32-40AC-AA11-E7F45E967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rd_75_20-07-2000_16-10_35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rd_81_01-08-2000_13-00_34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rd_81_18-08-2000_14-00_34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rd_75_01-08-2000_20-00_05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rd_75_01-08-2000_21-00_05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rd_75_01-08-2000_22-00_05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rd_75_19-07-2000_14-00_34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rd_75_19-07-2000_17-30_34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rd_75_20-07-2000_14-20_35" descr=""/>
          <p:cNvPicPr/>
          <p:nvPr/>
        </p:nvPicPr>
        <p:blipFill>
          <a:blip r:embed="rId1"/>
          <a:stretch/>
        </p:blipFill>
        <p:spPr>
          <a:xfrm>
            <a:off x="1800360" y="1714680"/>
            <a:ext cx="554328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rd_59_20-07-2000_22-30_35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rd_75_20-07-2000_19-45_35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5:54:03Z</dcterms:created>
  <dc:creator>FCRC_TSH1</dc:creator>
  <dc:description/>
  <dc:language>en-US</dc:language>
  <cp:lastModifiedBy>FCRC_TSH1</cp:lastModifiedBy>
  <dcterms:modified xsi:type="dcterms:W3CDTF">2002-06-06T18:07:21Z</dcterms:modified>
  <cp:revision>2</cp:revision>
  <dc:subject/>
  <dc:title>PowerPoint Presentation</dc:title>
</cp:coreProperties>
</file>