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E9D-0330-4EA1-BCDC-89FC7447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D8B-D276-4574-BF30-40F2DF24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1CF-C472-44B3-A88B-B414ED48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D14-C057-46B8-A018-DEE46252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655-57EE-4851-88D6-FC0B8D2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367-EC0B-494E-BD8A-5E1D8FD8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5A6-547A-4165-8657-222616F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9A7-849E-491B-9251-C51BB1A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108-DF8E-4F79-A58F-0E07A4D3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926-1ECF-412A-ADF0-E9A0E2DB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637-9477-459B-A641-516D2B9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955-E0F5-4EDB-B2A2-1E5B71E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E24-F188-47AE-8EEE-F64A2517A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rd_75_20-07-2000_16-10_3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rd_81_01-08-2000_13-0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rd_81_18-08-2000_14-0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rd_75_01-08-2000_20-00_0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rd_75_01-08-2000_21-00_0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rd_75_01-08-2000_22-00_0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rd_75_19-07-2000_14-0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rd_75_19-07-2000_17-30_3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rd_75_20-07-2000_14-20_35" descr=""/>
          <p:cNvPicPr/>
          <p:nvPr/>
        </p:nvPicPr>
        <p:blipFill>
          <a:blip r:embed="rId1"/>
          <a:stretch/>
        </p:blipFill>
        <p:spPr>
          <a:xfrm>
            <a:off x="1800360" y="1714680"/>
            <a:ext cx="554328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rd_59_20-07-2000_22-30_3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rd_75_20-07-2000_19-45_35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5:54:03Z</dcterms:created>
  <dc:creator>FCRC_TSH1</dc:creator>
  <dc:description/>
  <dc:language>en-US</dc:language>
  <cp:lastModifiedBy>FCRC_TSH1</cp:lastModifiedBy>
  <dcterms:modified xsi:type="dcterms:W3CDTF">2002-06-06T18:07:21Z</dcterms:modified>
  <cp:revision>2</cp:revision>
  <dc:subject/>
  <dc:title>PowerPoint Presentation</dc:title>
</cp:coreProperties>
</file>