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284-00D5-4CF6-ADE5-AFAF8A16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BE1-0312-44DD-B733-DA43A4F7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141-B768-4CFC-B56F-268635F3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48D-F476-4A2E-8784-616F58C0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FA6-E2C1-4C7F-8106-4ADB9651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D79-38EE-41CC-AA62-154A3391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4DA-B60D-416F-A237-D81D670A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521-C150-4E2A-A494-F0B6ADA7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D64-8356-4828-8344-C77A1FE7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C42-ED57-4E72-B43E-9B396DD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32E-8E16-48A8-81AA-3537C738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845-7970-4A12-8F6C-37803038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E2DD-9FED-4FD1-9529-D3376DAC2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23920" y="13712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BernhardMod BT"/>
              </a:rPr>
              <a:t>Do not undermine your worth by comparing yourself with others. 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BernhardMod BT"/>
              </a:rPr>
              <a:t>It is because we are different that each of us is 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80988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ernhardMod BT"/>
              </a:rPr>
              <a:t>Do not set your goals by what other people deem importa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ernhardMod BT"/>
              </a:rPr>
              <a:t>Only you know what is best for you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8ce"/>
            </a:gs>
            <a:gs pos="50000">
              <a:srgbClr val="dddddd"/>
            </a:gs>
            <a:gs pos="100000">
              <a:srgbClr val="0098c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BernhardMod BT"/>
              </a:rPr>
              <a:t>Do not give up when you still have something to give.  Nothing is really over until the moment you stop trying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BernhardMod BT"/>
              </a:rPr>
              <a:t>It is a fragile thread that binds us to each other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495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Do not let your life slip through your fingers by living in the past nor for the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By living your life one day at a time, you live all the days of your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47960" y="41907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bab1"/>
                </a:solidFill>
                <a:latin typeface="BernhardMod BT"/>
              </a:rPr>
              <a:t>Do not shut love out of your life by saying it is impossible to find.  The quickest way to receive love is to give love; the fastest way to lose love is to hold it too tigh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04920"/>
            <a:ext cx="4572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BernhardMod BT"/>
              </a:rPr>
              <a:t>Do not be afraid to encounter risks.  It is by taking chances that we learn how to be br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9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2590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hardMod BT"/>
              </a:rPr>
              <a:t>Do not dismiss your dream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ernhardMod BT"/>
              </a:rPr>
              <a:t>To be without dreams is to be without hope;  to be without hope is to be without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BernhardMod BT"/>
              </a:rPr>
              <a:t>Life is not a race, but a journey to be savored </a:t>
            </a:r>
            <a:br>
              <a:rPr sz="3000"/>
            </a:br>
            <a:r>
              <a:rPr b="0" lang="en-US" sz="3000" spc="-1" strike="noStrike">
                <a:solidFill>
                  <a:srgbClr val="ccffff"/>
                </a:solidFill>
                <a:latin typeface="BernhardMod BT"/>
              </a:rPr>
              <a:t>each step of the w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BernhardMod BT"/>
              </a:rPr>
              <a:t>Do not run through life so fast that you forget not only where you have been, but also where you are go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4280" y="228240"/>
            <a:ext cx="4114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LET IT 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06:42:35Z</dcterms:created>
  <dc:creator/>
  <dc:description/>
  <dc:language>en-US</dc:language>
  <cp:lastModifiedBy>isemanaraya</cp:lastModifiedBy>
  <dcterms:modified xsi:type="dcterms:W3CDTF">2001-12-03T20:47:29Z</dcterms:modified>
  <cp:revision>15</cp:revision>
  <dc:subject>Inspirations</dc:subject>
  <dc:title>Inspirations</dc:title>
</cp:coreProperties>
</file>