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B33-2AA1-4E88-9CFD-B9CF815B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44C-5D7A-42EE-B6B7-6DACE568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20A-3438-4606-8A34-2BF773D8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AA7-981F-4BE8-B556-5E30DF5A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A72-1670-4A19-9981-335A7047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2B2-481A-48EA-81B1-C18F5433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527-45DF-47A8-BBE0-D6457992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7A4-034C-4D30-9BE5-26F782AE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FF2-0798-4F65-A3EC-20C865BE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3E3-B304-4393-ACFB-706236B9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2E8-BACF-40AD-8FF6-AF0B17D8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0C5-5896-4B64-83A2-5E1633C2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4AB1-8559-4BE0-90FB-B3C36E717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23920" y="13712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BernhardMod BT"/>
              </a:rPr>
              <a:t>Do not undermine your worth by comparing yourself with others. 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BernhardMod BT"/>
              </a:rPr>
              <a:t>It is because we are different that each of us is 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380988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ernhardMod BT"/>
              </a:rPr>
              <a:t>Do not set your goals by what other people deem importa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ernhardMod BT"/>
              </a:rPr>
              <a:t>Only you know what is best for you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8ce"/>
            </a:gs>
            <a:gs pos="50000">
              <a:srgbClr val="dddddd"/>
            </a:gs>
            <a:gs pos="100000">
              <a:srgbClr val="0098c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46479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nhardMod BT"/>
              </a:rPr>
              <a:t>Do not give up when you still have something to give.  Nothing is really over until the moment you stop trying.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BernhardMod BT"/>
              </a:rPr>
              <a:t>It is a fragile thread that binds us to each other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4495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Do not let your life slip through your fingers by living in the past nor for the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By living your life one day at a time, you live all the days of your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47960" y="41907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bab1"/>
                </a:solidFill>
                <a:latin typeface="BernhardMod BT"/>
              </a:rPr>
              <a:t>Do not shut love out of your life by saying it is impossible to find.  The quickest way to receive love is to give love; the fastest way to lose love is to hold it too tigh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304920"/>
            <a:ext cx="4572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ernhardMod BT"/>
              </a:rPr>
              <a:t>Do not be afraid to encounter risks.  It is by taking chances that we learn how to be br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9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259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hardMod BT"/>
              </a:rPr>
              <a:t>Do not dismiss your dream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ernhardMod BT"/>
              </a:rPr>
              <a:t>To be without dreams is to be without hope;  to be without hope is to be without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BernhardMod BT"/>
              </a:rPr>
              <a:t>Life is not a race, but a journey to be savored </a:t>
            </a:r>
            <a:br>
              <a:rPr sz="3000"/>
            </a:br>
            <a:r>
              <a:rPr b="0" lang="en-US" sz="3000" spc="-1" strike="noStrike">
                <a:solidFill>
                  <a:srgbClr val="ccffff"/>
                </a:solidFill>
                <a:latin typeface="BernhardMod BT"/>
              </a:rPr>
              <a:t>each step of the w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BernhardMod BT"/>
              </a:rPr>
              <a:t>Do not run through life so fast that you forget not only where you have been, but also where you are go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4280" y="228240"/>
            <a:ext cx="4114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LET IT 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06:42:35Z</dcterms:created>
  <dc:creator/>
  <dc:description/>
  <dc:language>en-US</dc:language>
  <cp:lastModifiedBy>isemanaraya</cp:lastModifiedBy>
  <dcterms:modified xsi:type="dcterms:W3CDTF">2001-12-03T20:47:29Z</dcterms:modified>
  <cp:revision>15</cp:revision>
  <dc:subject>Inspirations</dc:subject>
  <dc:title>Inspirations</dc:title>
</cp:coreProperties>
</file>