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D68-2E5E-4E47-AE1E-26DB05A5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5DE-D419-4915-A3CF-6A3F422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BD2-0556-4866-8E95-97DB7B7D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565-B392-4BA8-9927-DF4A81D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8B3-C927-467F-ADEA-55C14034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9CF-36F5-41D4-A915-3BCB595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F8D-5B37-45E5-8693-5ECAE8D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9FE-0338-4491-BC31-8FDD9E19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495-CD20-4536-B431-4DC88B9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5F2-B54E-40B8-800B-0802A77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CA8-A1C7-4A2D-90AB-8EC578A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4F6-B0B3-4341-9190-BA7BC2C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5E27-BE1F-4A2C-96FA-7EBD2FEF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Don't love someone because of who they are, but because of who they are when they are with 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 Narrow"/>
                <a:ea typeface="Arial"/>
              </a:rPr>
              <a:t>Don't cry                        because it is over, 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 Narrow"/>
                <a:ea typeface="Arial"/>
              </a:rPr>
              <a:t>SMILE:)                   because it happen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 Narrow"/>
                <a:ea typeface="Arial"/>
              </a:rPr>
              <a:t>There's always going to be people that hurt you so what you have to do  is keep on trusting and just be more careful about  who you trust next time a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Narrow"/>
                <a:ea typeface="Arial"/>
              </a:rPr>
              <a:t>MAKE yourself a better person and know who you are before you try and know someone else and expect them to know  yo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Narrow"/>
                <a:ea typeface="Arial"/>
              </a:rPr>
              <a:t>DONT TRY SO HARD...THE BEST THINGS HAPPEN WHEN U LEAST EXPECT  THEM TOO...  Smile , It increases your face Value  :-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  <a:ea typeface="Arial"/>
              </a:rPr>
              <a:t>Never ruin an apology with an exc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Sometimes facing opportunity is like staring at the knees of a giraff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 Narrow"/>
                <a:ea typeface="Arial"/>
              </a:rPr>
              <a:t>In the dictionary SUCCESS comes before WORK, in real life it does'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 Narrow"/>
                <a:ea typeface="Arial"/>
              </a:rPr>
              <a:t>We would not need to change people, only if we knew people change. It takes 20 years to build a reputation and a minute to destroy 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Narrow"/>
                <a:ea typeface="Arial"/>
              </a:rPr>
              <a:t>Temper is what gets most of us into trouble. Pride is what keeps us t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Narrow"/>
                <a:ea typeface="Arial"/>
              </a:rPr>
              <a:t>True power is knowing that u can, but u don'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No man is worth your tears, and the one who is WONT make you cry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  <a:ea typeface="Arial"/>
              </a:rPr>
              <a:t>Just because someone doesn't love you the way you want them to, doesn't  mean they don't love you with all they ha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They say love hides behind every corner , then I must be walking in  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Narrow"/>
                <a:ea typeface="Arial"/>
              </a:rPr>
              <a:t>A true friend is someone who reaches for your hand and touches your  he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4876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The worst way to miss someone is to be sitting right beside them knowing  you can't have th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Narrow"/>
                <a:ea typeface="Arial"/>
              </a:rPr>
              <a:t>To the world you may be one person, but to one person you may be the  worl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 Narrow"/>
                <a:ea typeface="Arial"/>
              </a:rPr>
              <a:t>Don't waste your time on a guy/girl, who isn't  willing to waste their  time on yo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  <a:ea typeface="Arial"/>
              </a:rPr>
              <a:t>Maybe God wants us to meet a few wrong people before  meeting the right one, so that when we finally meet the person, we will know how to be gratefu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5:41:56Z</dcterms:created>
  <dc:creator>jean</dc:creator>
  <dc:description/>
  <dc:language>en-US</dc:language>
  <cp:lastModifiedBy>perumal</cp:lastModifiedBy>
  <dcterms:modified xsi:type="dcterms:W3CDTF">2001-05-24T04:36:20Z</dcterms:modified>
  <cp:revision>5</cp:revision>
  <dc:subject/>
  <dc:title>無投影片標題</dc:title>
</cp:coreProperties>
</file>