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583-6A15-457E-B3DA-64079B60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0ED-B43B-4453-B540-9D4F4D3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7E2-5AAC-4396-BA88-59D6631B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789-F2D9-4C2D-9F61-7DCC03C6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682-3A7F-49EE-A172-209B383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CA3-977B-4D04-B4FB-0C49E34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EB8-963A-42C3-8D0D-E8C3A7A6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5EC-CBBE-4975-8079-2364A1D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64D-2166-4001-B43F-457A763C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546-AF9D-44AD-A1B6-9513E4E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108-D990-4A0B-AE21-CD297CE1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13C-C51C-45A9-854E-02CCAEDA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7BCD-19D2-4690-81B8-FEAFD3548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Don't love someone because of who they are, but because of who they are when they are with 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 Narrow"/>
                <a:ea typeface="Arial"/>
              </a:rPr>
              <a:t>Don't cry                        because it is over, 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Arial Narrow"/>
                <a:ea typeface="Arial"/>
              </a:rPr>
              <a:t>SMILE:)                   because it happen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 Narrow"/>
                <a:ea typeface="Arial"/>
              </a:rPr>
              <a:t>There's always going to be people that hurt you so what you have to do  is keep on trusting and just be more careful about  who you trust next time a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Narrow"/>
                <a:ea typeface="Arial"/>
              </a:rPr>
              <a:t>MAKE yourself a better person and know who you are before you try and know someone else and expect them to know  yo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Narrow"/>
                <a:ea typeface="Arial"/>
              </a:rPr>
              <a:t>DONT TRY SO HARD...THE BEST THINGS HAPPEN WHEN U LEAST EXPECT  THEM TOO...  Smile , It increases your face Value  :-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  <a:ea typeface="Arial"/>
              </a:rPr>
              <a:t>Never ruin an apology with an excu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Narrow"/>
                <a:ea typeface="Arial"/>
              </a:rPr>
              <a:t>Sometimes facing opportunity is like staring at the knees of a giraff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 Narrow"/>
                <a:ea typeface="Arial"/>
              </a:rPr>
              <a:t>In the dictionary SUCCESS comes before WORK, in real life it does'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 Narrow"/>
                <a:ea typeface="Arial"/>
              </a:rPr>
              <a:t>We would not need to change people, only if we knew people change. It takes 20 years to build a reputation and a minute to destroy 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Narrow"/>
                <a:ea typeface="Arial"/>
              </a:rPr>
              <a:t>Temper is what gets most of us into trouble. Pride is what keeps us t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Narrow"/>
                <a:ea typeface="Arial"/>
              </a:rPr>
              <a:t>True power is knowing that u can, but u don'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Narrow"/>
                <a:ea typeface="Arial"/>
              </a:rPr>
              <a:t>No man is worth your tears, and the one who is WONT make you cry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  <a:ea typeface="Arial"/>
              </a:rPr>
              <a:t>Just because someone doesn't love you the way you want them to, doesn't  mean they don't love you with all they ha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They say love hides behind every corner , then I must be walking in  circ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Narrow"/>
                <a:ea typeface="Arial"/>
              </a:rPr>
              <a:t>A true friend is someone who reaches for your hand and touches your  he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4876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Narrow"/>
                <a:ea typeface="Arial"/>
              </a:rPr>
              <a:t>The worst way to miss someone is to be sitting right beside them knowing  you can't have th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Narrow"/>
                <a:ea typeface="Arial"/>
              </a:rPr>
              <a:t>To the world you may be one person, but to one person you may be the  worl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 Narrow"/>
                <a:ea typeface="Arial"/>
              </a:rPr>
              <a:t>Don't waste your time on a guy/girl, who isn't  willing to waste their  time on yo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  <a:ea typeface="Arial"/>
              </a:rPr>
              <a:t>Maybe God wants us to meet a few wrong people before  meeting the right one, so that when we finally meet the person, we will know how to be gratefu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5:41:56Z</dcterms:created>
  <dc:creator>jean</dc:creator>
  <dc:description/>
  <dc:language>en-US</dc:language>
  <cp:lastModifiedBy>perumal</cp:lastModifiedBy>
  <dcterms:modified xsi:type="dcterms:W3CDTF">2001-05-24T04:36:20Z</dcterms:modified>
  <cp:revision>5</cp:revision>
  <dc:subject/>
  <dc:title>無投影片標題</dc:title>
</cp:coreProperties>
</file>