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4CF-5030-422C-95FA-5E136701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E97-A7F7-4B71-B850-BC39C2F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9F6-0A84-4337-ADA8-AC5EED33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E73-F652-4AE9-9EE8-6052C625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419-1ACD-4941-AA0A-7BAE302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17B-7ABC-471D-9976-C2DCA4E8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D6F-94A2-4E48-ABF7-A05CC39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740-B0D8-4A2F-AA60-9508EE4A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69F-BE04-4014-B715-39B8F6A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77E-DFB4-4490-B4C0-04DC79D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E8D-884F-4B96-83EC-FF3BE9B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5B9-D52E-4A0B-8BA7-7EC7537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D44-1D26-4671-9624-0988281F4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BY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680" y="297000"/>
            <a:ext cx="91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Garamond"/>
              </a:rPr>
              <a:t>Most of us want other people's children to be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1280" y="9079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Garamond"/>
              </a:rPr>
              <a:t>the way ours sh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ABY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20520" y="228600"/>
            <a:ext cx="54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By the time a man realiz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6920" y="6858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may be his father was righ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44000" y="114300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Book Antiqua"/>
              </a:rPr>
              <a:t>he usually has a son who say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02640" y="1676520"/>
            <a:ext cx="434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omic Sans MS"/>
              </a:rPr>
              <a:t>"Father, you are wrong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BY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30400" y="264960"/>
            <a:ext cx="711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Book Antiqua"/>
              </a:rPr>
              <a:t>Hold your child's hand every chance you g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65600" y="868320"/>
            <a:ext cx="966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Book Antiqua"/>
              </a:rPr>
              <a:t>The time will come all too soon when he or she won't let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ABY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33800" y="685800"/>
            <a:ext cx="4199400" cy="459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34"/>
                </a:solidFill>
                <a:latin typeface="Comic Sans MS"/>
              </a:rPr>
              <a:t>when the parent feels chi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28600"/>
            <a:ext cx="5013360" cy="459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2a34"/>
                </a:solidFill>
                <a:latin typeface="Comic Sans MS"/>
              </a:rPr>
              <a:t>A sweater is usually put on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ABY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840" y="4022640"/>
            <a:ext cx="797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Comic Sans MS"/>
              </a:rPr>
              <a:t>There is only one perfect child in this world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5760" y="4556160"/>
            <a:ext cx="45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99"/>
                </a:solidFill>
                <a:latin typeface="Comic Sans MS"/>
              </a:rPr>
              <a:t>and every mother has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AB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84080" y="19836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Children begin by loving their par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040" y="60948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s they grow, they judge th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0880" y="106668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603f"/>
                </a:solidFill>
                <a:latin typeface="Comic Sans MS"/>
              </a:rPr>
              <a:t>very rarely, they forgi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c6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BY18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5280" y="6602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Making the decision to have a child is moment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0" y="119376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It is to decide forever to have your heart go walking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3040" y="17272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outside you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BY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38320" y="928800"/>
            <a:ext cx="7066080" cy="52056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89"/>
                </a:solidFill>
                <a:latin typeface="Comic Sans MS"/>
              </a:rPr>
              <a:t>You can learn many things from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3840" y="5181480"/>
            <a:ext cx="7349760" cy="52056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89"/>
                </a:solidFill>
                <a:latin typeface="Comic Sans MS"/>
              </a:rPr>
              <a:t>How much patience you have, fo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by23new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280" y="4305240"/>
            <a:ext cx="84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4b2c"/>
                </a:solidFill>
                <a:latin typeface="Book Antiqua"/>
              </a:rPr>
              <a:t>If you have never been hated by your chi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4320" y="521964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4b2c"/>
                </a:solidFill>
                <a:latin typeface="Book Antiqua"/>
              </a:rPr>
              <a:t>you have never been a par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IF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304920"/>
            <a:ext cx="702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Book Antiqua"/>
              </a:rPr>
              <a:t>A child may not be able to lift too much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120" y="822240"/>
            <a:ext cx="837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Book Antiqua"/>
              </a:rPr>
              <a:t>But it can certainly hold a marriage toge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by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0280" y="2590920"/>
            <a:ext cx="650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Garamond"/>
              </a:rPr>
              <a:t>Children are like wet cemen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80080" y="3216240"/>
            <a:ext cx="1003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Garamond"/>
              </a:rPr>
              <a:t>Whatever falls on them makes an im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7360" y="365040"/>
            <a:ext cx="4764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33"/>
                </a:solidFill>
                <a:latin typeface="Book Antiqua"/>
              </a:rPr>
              <a:t>The best thing to spe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33"/>
                </a:solidFill>
                <a:latin typeface="Book Antiqua"/>
              </a:rPr>
              <a:t>on your children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69400">
            <a:off x="2345400" y="1904760"/>
            <a:ext cx="21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Book Antiqua"/>
              </a:rPr>
              <a:t>your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ABY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60240" y="24300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There are no illegitimate childr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2440" y="594360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4b2c"/>
                </a:solidFill>
                <a:latin typeface="Comic Sans MS"/>
              </a:rPr>
              <a:t>only illegitimate par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ABY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8920" y="593640"/>
            <a:ext cx="49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No two children are alike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8160" y="3124080"/>
            <a:ext cx="488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particularly if one is you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1560" y="373392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87280" y="5334120"/>
            <a:ext cx="28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2f5b"/>
                </a:solidFill>
                <a:latin typeface="Book Antiqua"/>
              </a:rPr>
              <a:t>the other isn'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7:48:24Z</dcterms:created>
  <dc:creator>Suhail</dc:creator>
  <dc:description/>
  <dc:language>en-US</dc:language>
  <cp:lastModifiedBy>SKarjikar</cp:lastModifiedBy>
  <dcterms:modified xsi:type="dcterms:W3CDTF">2001-04-20T07:12:48Z</dcterms:modified>
  <cp:revision>42</cp:revision>
  <dc:subject/>
  <dc:title>No Slide Title</dc:title>
</cp:coreProperties>
</file>