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65FAE-63CE-4EA7-8F3C-E2E58B378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73718-FD9B-4C6F-A12D-C2151C99D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A1942-4293-4459-97E1-F77EEAF07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6CD51-5644-42BD-A58D-31B6CB711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E872F-107F-4A6A-A11C-BAF24552F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BC225-0318-4433-B832-18752E60D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30423-8EDB-4992-92F5-CD4C3EA73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49B23-B0D2-4C3A-BE9E-1062C90A7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90B33-5391-4A46-AF82-4F9E95369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C8756-360F-44BE-B5F1-B1BDAB5FA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2CB3C-E37A-495E-8073-7A8950BB2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31DB5-B9AE-4E0A-89C7-B9F274CC5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D965-6DAC-4B04-BA07-5333F8EC1F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28600" y="609480"/>
            <a:ext cx="4191120" cy="5562720"/>
          </a:xfrm>
          <a:prstGeom prst="rect">
            <a:avLst/>
          </a:prstGeom>
          <a:ln w="0">
            <a:noFill/>
          </a:ln>
        </p:spPr>
      </p:pic>
      <p:sp>
        <p:nvSpPr>
          <p:cNvPr id="42" name=""/>
          <p:cNvSpPr/>
          <p:nvPr/>
        </p:nvSpPr>
        <p:spPr>
          <a:xfrm>
            <a:off x="4419720" y="1295280"/>
            <a:ext cx="4287600" cy="457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iner Hand ITC"/>
                <a:ea typeface="Times New Roman"/>
              </a:rPr>
              <a:t>Happiness is like perfume, you can't pour on others without getting a few drops on yourself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ea typeface="Times New Roman"/>
              </a:rPr>
              <a:t> </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04920" y="533520"/>
            <a:ext cx="3733560" cy="5867280"/>
          </a:xfrm>
          <a:prstGeom prst="rect">
            <a:avLst/>
          </a:prstGeom>
          <a:ln w="0">
            <a:noFill/>
          </a:ln>
        </p:spPr>
      </p:pic>
      <p:sp>
        <p:nvSpPr>
          <p:cNvPr id="44" name=""/>
          <p:cNvSpPr/>
          <p:nvPr/>
        </p:nvSpPr>
        <p:spPr>
          <a:xfrm>
            <a:off x="3992400" y="228600"/>
            <a:ext cx="48466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Brush455 BT"/>
                <a:ea typeface="Times New Roman"/>
              </a:rPr>
              <a:t>Love has its own time, season and own reasons! You can't ask it to stay, you can only embrace it as it comes and be glad that for a moment in your life it was yours!</a:t>
            </a:r>
            <a:endParaRPr b="0" lang="en-US" sz="36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457200" y="971640"/>
            <a:ext cx="3962520" cy="4895640"/>
          </a:xfrm>
          <a:prstGeom prst="rect">
            <a:avLst/>
          </a:prstGeom>
          <a:ln w="0">
            <a:noFill/>
          </a:ln>
        </p:spPr>
      </p:pic>
      <p:sp>
        <p:nvSpPr>
          <p:cNvPr id="46" name=""/>
          <p:cNvSpPr/>
          <p:nvPr/>
        </p:nvSpPr>
        <p:spPr>
          <a:xfrm>
            <a:off x="4267080" y="196920"/>
            <a:ext cx="4648320" cy="651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ccff"/>
                </a:solidFill>
                <a:latin typeface="Vivaldi"/>
                <a:ea typeface="Times New Roman"/>
              </a:rPr>
              <a:t>	</a:t>
            </a:r>
            <a:r>
              <a:rPr b="0" i="1" lang="en-US" sz="3500" spc="-1" strike="noStrike">
                <a:solidFill>
                  <a:srgbClr val="6600ff"/>
                </a:solidFill>
                <a:latin typeface="Tango BT"/>
                <a:ea typeface="Times New Roman"/>
              </a:rPr>
              <a:t>True love doesn't have a happy ending. </a:t>
            </a:r>
            <a:endParaRPr b="0" lang="en-US" sz="3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6600ff"/>
                </a:solidFill>
                <a:latin typeface="Tango BT"/>
                <a:ea typeface="Times New Roman"/>
              </a:rPr>
              <a:t>	</a:t>
            </a:r>
            <a:r>
              <a:rPr b="0" i="1" lang="en-US" sz="3500" spc="-1" strike="noStrike">
                <a:solidFill>
                  <a:srgbClr val="6600ff"/>
                </a:solidFill>
                <a:latin typeface="Tango BT"/>
                <a:ea typeface="Times New Roman"/>
              </a:rPr>
              <a:t>That's because true love doesn't have an ending. </a:t>
            </a:r>
            <a:endParaRPr b="0" lang="en-US" sz="3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6600ff"/>
                </a:solidFill>
                <a:latin typeface="Tango BT"/>
                <a:ea typeface="Times New Roman"/>
              </a:rPr>
              <a:t>	</a:t>
            </a:r>
            <a:r>
              <a:rPr b="0" i="1" lang="en-US" sz="3500" spc="-1" strike="noStrike">
                <a:solidFill>
                  <a:srgbClr val="6600ff"/>
                </a:solidFill>
                <a:latin typeface="Tango BT"/>
                <a:ea typeface="Times New Roman"/>
              </a:rPr>
              <a:t>A heart truly in love never loses hope but always believes in the promise of love, no matter how long the time and how far the distance.</a:t>
            </a:r>
            <a:endParaRPr b="0" lang="en-US" sz="35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304920" y="457200"/>
            <a:ext cx="4038480" cy="5791320"/>
          </a:xfrm>
          <a:prstGeom prst="rect">
            <a:avLst/>
          </a:prstGeom>
          <a:ln w="0">
            <a:noFill/>
          </a:ln>
        </p:spPr>
      </p:pic>
      <p:sp>
        <p:nvSpPr>
          <p:cNvPr id="48" name=""/>
          <p:cNvSpPr/>
          <p:nvPr/>
        </p:nvSpPr>
        <p:spPr>
          <a:xfrm>
            <a:off x="4348080" y="304920"/>
            <a:ext cx="464364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0093"/>
                </a:solidFill>
                <a:latin typeface="Brush455 BT"/>
                <a:ea typeface="Times New Roman"/>
              </a:rPr>
              <a:t>As long as we have memories, yesterday remains, as long as we have hope, tomorrow awaits. As long as we have friendship, each day is never a waste.</a:t>
            </a:r>
            <a:r>
              <a:rPr b="1" lang="en-US" sz="4000" spc="-1" strike="noStrike">
                <a:solidFill>
                  <a:srgbClr val="d60093"/>
                </a:solidFill>
                <a:latin typeface="Brush455 BT"/>
              </a:rPr>
              <a:t> </a:t>
            </a:r>
            <a:endParaRPr b="0" lang="en-US" sz="4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304920" y="514440"/>
            <a:ext cx="3886200" cy="5829120"/>
          </a:xfrm>
          <a:prstGeom prst="rect">
            <a:avLst/>
          </a:prstGeom>
          <a:ln w="0">
            <a:noFill/>
          </a:ln>
        </p:spPr>
      </p:pic>
      <p:sp>
        <p:nvSpPr>
          <p:cNvPr id="50" name=""/>
          <p:cNvSpPr/>
          <p:nvPr/>
        </p:nvSpPr>
        <p:spPr>
          <a:xfrm>
            <a:off x="3962520" y="304920"/>
            <a:ext cx="518148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Pristina"/>
                <a:ea typeface="Times New Roman"/>
              </a:rPr>
              <a:t>Friends are like stars. You can't always see them, but you know they are there. Have great hopes and dare to go all out for them. Have great dreams and dare to live them. Have tremendous expectations and believe in them.</a:t>
            </a:r>
            <a:endParaRPr b="0" lang="en-US" sz="32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d1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3520" y="990720"/>
            <a:ext cx="3429000" cy="5105160"/>
          </a:xfrm>
          <a:prstGeom prst="rect">
            <a:avLst/>
          </a:prstGeom>
          <a:ln w="0">
            <a:noFill/>
          </a:ln>
        </p:spPr>
      </p:pic>
      <p:sp>
        <p:nvSpPr>
          <p:cNvPr id="52" name=""/>
          <p:cNvSpPr/>
          <p:nvPr/>
        </p:nvSpPr>
        <p:spPr>
          <a:xfrm>
            <a:off x="3581280" y="60480"/>
            <a:ext cx="556272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The recipe of friendship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1 cup of sharing</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2 cups of caring</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1 cup of forgiveness and            hugs of tendernes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   </a:t>
            </a:r>
            <a:r>
              <a:rPr b="1" i="1" lang="en-US" sz="4000" spc="-1" strike="noStrike">
                <a:solidFill>
                  <a:srgbClr val="ff33cc"/>
                </a:solidFill>
                <a:latin typeface="Tango BT"/>
                <a:ea typeface="Times New Roman"/>
              </a:rPr>
              <a:t>Mix all these together…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Tango BT"/>
                <a:ea typeface="Times New Roman"/>
              </a:rPr>
              <a:t>to make friends forever.</a:t>
            </a:r>
            <a:r>
              <a:rPr b="1" i="1" lang="en-US" sz="2800" spc="-1" strike="noStrike">
                <a:solidFill>
                  <a:srgbClr val="ff33cc"/>
                </a:solidFill>
                <a:latin typeface="Tango BT"/>
                <a:ea typeface="Times New Roman"/>
              </a:rPr>
              <a:t>          </a:t>
            </a:r>
            <a:endParaRPr b="0" lang="en-US" sz="28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0T01:21:43Z</dcterms:created>
  <dc:creator/>
  <dc:description/>
  <dc:language>en-US</dc:language>
  <cp:lastModifiedBy>Archana Karukonda</cp:lastModifiedBy>
  <dcterms:modified xsi:type="dcterms:W3CDTF">2002-05-18T21:36:33Z</dcterms:modified>
  <cp:revision>42</cp:revision>
  <dc:subject/>
  <dc:title>PowerPoint Presentation</dc:title>
</cp:coreProperties>
</file>