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120-2F58-4D3A-BF42-24986B4C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4A0-B7AF-4DA4-A52E-D5FBE998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208-8D5F-44A1-9439-00F1D361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4B8-89F3-4228-8CA9-42E98B04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C02-1DD1-4678-8FCD-F59F6A0F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902-F54D-47D5-8379-A683C397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D2A-2D46-472B-B3EE-949CBD1E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D3E-9625-4237-B1B0-49856381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749-3C07-411E-9C42-430520D5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BB6-6C0D-4182-84E8-6CFF2B02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783-B0C1-47BA-BFD4-77BC9BB7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E21-9416-47A2-9282-4CDE8022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F571-0DBB-44ED-B78E-F5AE7F5F3169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hyperlink" Target="http://images.webshots.com/scripts/PhotoDownload.fcgi?targetmode=&amp;photos=19013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hyperlink" Target="http://images.webshots.com/scripts/PhotoDownload.fcgi?targetmode=&amp;photos=2237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hyperlink" Target="http://images.webshots.com/scripts/PhotoDownload.fcgi?targetmode=&amp;photos=1936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hyperlink" Target="http://images.webshots.com/scripts/PhotoDownload.fcgi?targetmode=&amp;photos=5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hyperlink" Target="http://images.webshots.com/scripts/PhotoDownload.fcgi?targetmode=&amp;photos=2110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hyperlink" Target="http://images.webshots.com/scripts/PhotoDownload.fcgi?targetmode=&amp;photos=637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hyperlink" Target="http://images.webshots.com/scripts/PhotoDownload.fcgi?targetmode=&amp;photos=11001" TargetMode="External"/><Relationship Id="rId3" Type="http://schemas.openxmlformats.org/officeDocument/2006/relationships/hyperlink" Target="http://images.webshots.com/scripts/PhotoDownload.fcgi?targetmode=&amp;photos=11001" TargetMode="External"/><Relationship Id="rId4" Type="http://schemas.openxmlformats.org/officeDocument/2006/relationships/hyperlink" Target="http://images.webshots.com/scripts/PhotoDownload.fcgi?targetmode=&amp;photos=11001" TargetMode="External"/><Relationship Id="rId5" Type="http://schemas.openxmlformats.org/officeDocument/2006/relationships/hyperlink" Target="http://images.webshots.com/scripts/PhotoDownload.fcgi?targetmode=&amp;photos=11001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666633"/>
                </a:solidFill>
                <a:latin typeface="Monotype Corsiva"/>
              </a:rPr>
              <a:t>10 ROSE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5469_wallpaper280" descr="&quot;English Roses&quot; © The Image Bank"/>
          <p:cNvPicPr/>
          <p:nvPr/>
        </p:nvPicPr>
        <p:blipFill>
          <a:blip r:embed="rId1"/>
          <a:stretch/>
        </p:blipFill>
        <p:spPr>
          <a:xfrm>
            <a:off x="2514600" y="225252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nd the last one for a long and healthy lif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19013_wallpaper280" descr="&quot;Gentle Blossom&quot; © Byron W. Moore /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096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rose for fri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47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1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5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2237_wallpaper280" descr="&quot;Rose Dew, Coos County, Oregon&quot; © Wood Sabol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27050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 second one for l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19360_wallpaper280" descr="&quot;Prime of Life&quot; ©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502_wallpaper280" descr="&quot;Rosebud&quot; © Rob Per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55276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inancial w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21101_wallpaper280" descr="&quot;Hope Blooms&quot; © SuperStock, Inc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6376_wallpaper280" descr="&quot;Birthday Roses&quot; © The Image Ba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52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85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11001_wallpaper280" descr="&quot;True Love Forever&quot; © SuperStock, Inc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22525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9024_wallpaper280" descr="&quot;Frosted English Rose&quot; © The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8116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19824_wallpaper280" descr="&quot;Sensuous Beauties&quot; © SuperStock, Inc."/>
          <p:cNvPicPr/>
          <p:nvPr/>
        </p:nvPicPr>
        <p:blipFill>
          <a:blip r:embed="rId1"/>
          <a:stretch/>
        </p:blipFill>
        <p:spPr>
          <a:xfrm>
            <a:off x="2590920" y="225252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swlabs</cp:lastModifiedBy>
  <dcterms:modified xsi:type="dcterms:W3CDTF">2002-05-09T21:04:07Z</dcterms:modified>
  <cp:revision>40</cp:revision>
  <dc:subject/>
  <dc:title>Mots d’enfants</dc:title>
</cp:coreProperties>
</file>