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FB4-0D1B-4627-8B89-C8918558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125-0B41-45BC-98B4-6DE3F4E0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60D-A22A-4B12-8478-DF91A013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5DA-2AD9-48A1-93E7-F9FC1430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4B6-F95E-48BC-8566-8C59CA9D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20F-A509-4E70-98F2-B5C3D35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B21-9D6D-4BEE-980A-46C4DC3D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866-3738-4A6F-A064-89FA9B94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770-3B9F-4CE9-ABD1-9592909E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63F-C4F5-4969-A130-104681AA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D62-51FE-40F5-8266-A0B9E5B3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FEF-EE40-457C-A47A-D366EE6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854E-E031-4F1E-A88A-F291482EF16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hyperlink" Target="http://images.webshots.com/scripts/PhotoDownload.fcgi?targetmode=&amp;photos=19013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hyperlink" Target="http://images.webshots.com/scripts/PhotoDownload.fcgi?targetmode=&amp;photos=2237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hyperlink" Target="http://images.webshots.com/scripts/PhotoDownload.fcgi?targetmode=&amp;photos=1936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hyperlink" Target="http://images.webshots.com/scripts/PhotoDownload.fcgi?targetmode=&amp;photos=5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hyperlink" Target="http://images.webshots.com/scripts/PhotoDownload.fcgi?targetmode=&amp;photos=211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hyperlink" Target="http://images.webshots.com/scripts/PhotoDownload.fcgi?targetmode=&amp;photos=637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hyperlink" Target="http://images.webshots.com/scripts/PhotoDownload.fcgi?targetmode=&amp;photos=11001" TargetMode="External"/><Relationship Id="rId3" Type="http://schemas.openxmlformats.org/officeDocument/2006/relationships/hyperlink" Target="http://images.webshots.com/scripts/PhotoDownload.fcgi?targetmode=&amp;photos=11001" TargetMode="External"/><Relationship Id="rId4" Type="http://schemas.openxmlformats.org/officeDocument/2006/relationships/hyperlink" Target="http://images.webshots.com/scripts/PhotoDownload.fcgi?targetmode=&amp;photos=11001" TargetMode="External"/><Relationship Id="rId5" Type="http://schemas.openxmlformats.org/officeDocument/2006/relationships/hyperlink" Target="http://images.webshots.com/scripts/PhotoDownload.fcgi?targetmode=&amp;photos=1100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666633"/>
                </a:solidFill>
                <a:latin typeface="Monotype Corsiva"/>
              </a:rPr>
              <a:t>10 ROSE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5469_wallpaper280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2514600" y="225252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nd the last one for a long and healthy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19013_wallpaper280" descr="&quot;Gentle Blossom&quot; © Byron W. Moore /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rose for fri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47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1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5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2237_wallpaper280" descr="&quot;Rose Dew, Coos County, Oregon&quot; © Wood Sabol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2705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 second one for 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19360_wallpaper280" descr="&quot;Prime of Life&quot; ©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502_wallpaper280" descr="&quot;Rosebud&quot; © Rob Per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5527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inancial w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21101_wallpaper280" descr="&quot;Hope Blooms&quot; © SuperStock, Inc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6376_wallpaper280" descr="&quot;Birthday Roses&quot; © The Image Ba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85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11001_wallpaper280" descr="&quot;True Love Forever&quot; © SuperStock, Inc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22525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9024_wallpaper280" descr="&quot;Frosted English Rose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19824_wallpaper280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590920" y="225252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swlabs</cp:lastModifiedBy>
  <dcterms:modified xsi:type="dcterms:W3CDTF">2002-05-09T21:04:07Z</dcterms:modified>
  <cp:revision>40</cp:revision>
  <dc:subject/>
  <dc:title>Mots d’enfants</dc:title>
</cp:coreProperties>
</file>