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B30-B96E-4A4C-9134-AC59C97B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943-7AA8-4C44-AE5D-01867150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13C-9825-4146-9BDB-44F4B4CD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F3E-345D-4D72-BE79-7A3FCFE0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62A6-8F04-45B6-9453-0F253EB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9E5-1BA0-4669-A1F3-349927E3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812-48A3-456F-8032-CC73ECB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74A-0406-4E16-8C7D-D0B5706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6B53-232F-4256-9452-14417AB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F5F8-284C-4571-95B1-A14F1C2F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20E8-8DEB-4AC3-B863-FBFCC74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E64-BCF1-4EB6-B9F5-BCCDB1A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60D-3171-4FAB-AC7D-2113DA0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6D48-3CBD-44AD-B5EF-9321AEB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6CEC-5A57-4D15-8958-495B724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12D-655A-4282-AD1D-DFD3F4E8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7A0D-0D59-42BF-A4AE-6BC00305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5F6-3D66-4069-9D81-7F2702A7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7A4-E1C7-40DE-B94F-8A284A17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3F9-C702-455F-8980-5C5445B1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81C-0FA6-4888-B2E6-E346F73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54A-9732-488B-81FE-8768911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B0D-CDFF-4DD5-912C-7A59E52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AC1-DA83-4AA7-869A-6903934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A5D-2384-4732-A828-087BC3A18A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6E5-6EE1-443A-9E4F-3BCF46AFF8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rewa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401292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: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arah Castro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aren Correa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elley Ga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573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FIREWA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ersonal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oftware-only solution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No external device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asy to install and upgrad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Protects against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Worms, Trojan horses, and spywar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s: ZoneAlarm, BlackI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dvantages, Disadvantage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ewall Applia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pecialized hardware devices, sometimes part of SOHO router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Can be Plug and Pla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Provide NAT and TCP port inspection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MZ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: NetGear, Linksys etc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urnkey Solu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urnkey solutions combine (arguably) the best of both Appliance and Software-only solution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der range of services offer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expensive, greater number of compon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ces between software and hardware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webpa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vel of Prot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 Set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ture Outl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 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6120" y="2898720"/>
            <a:ext cx="3378240" cy="71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2730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use of firewalls presents 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deoff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between service and protection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cide what your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ptimal balanc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between security and service is!!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Arial"/>
              </a:rPr>
              <a:t>Implementing a firewall is a great tool for security purpos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UT, DO EXPECT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AILUR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PLAN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FOR THE WORS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damentals of Firewa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is a firewal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firewall is a software or hardware that prevents unauthorized access, and enforces an access control party between two network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firewall imposes its policy on everything behind it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YOU – the user decides the polic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48440" y="3157560"/>
            <a:ext cx="27939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we need a firewal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To prevent certain types of data from getting in or out of particular areas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ecurity between the outside world and your network, especially protection from most Internet security threats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irewalls keep damage on one part of the network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a firewall protect against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urity threats posed by the Intern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authenticated interactive log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lication backdo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MTP session hijack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perating system bu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nial of servi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-mail bom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cr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rus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pa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direct bom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urce rout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a firewall not protect against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rtain class of threats such as inside attacks, and Outside attacks that it cannot det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nneling over most application protocols to trojaned or poorly written cli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-driven attacks- something is mailed or copied to an internal host where it is then execut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ast occurrences against OutL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SI MODEL &amp; FIREWA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cket Filter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at network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routers and firewall appli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 IP header in rule base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 IP addre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ination IP addre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/UDP source po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/UDP destination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n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rcuit Level Gatew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session layer of the OSI model (~ transport layer of the TCP/IP mode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s that the session between two end users is legiti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, no further processing or filtering of individual packets is don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lication Level Gatew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k in application la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ually proxy servers, also personal firewa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 level of secur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an slow down net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: Proxy Server and DMZ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ful Multilayer Inspection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bination of the abov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 level of security, and good perform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15:48Z</dcterms:created>
  <dc:creator>IT Public Labs</dc:creator>
  <dc:description/>
  <dc:language>en-US</dc:language>
  <cp:lastModifiedBy>USA Group Lab</cp:lastModifiedBy>
  <dcterms:modified xsi:type="dcterms:W3CDTF">2002-11-24T22:54:18Z</dcterms:modified>
  <cp:revision>52</cp:revision>
  <dc:subject/>
  <dc:title>SOHO Firew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