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E26C-7D0C-4130-BA97-F6763AC90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8D7B-1161-4AB4-925B-C1D3607C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93EC-2C30-4408-9D61-AF1A8AFD2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8BC9-3E4B-4C0F-A1A8-612F9E7A8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5A84-C481-47BD-A7BD-4550E0FCF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05DD-B2B4-4B0A-84D4-7A7ED339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D9F1-68EB-469A-871D-316B8DC2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6D0D-E88B-48F6-97CD-A85430E1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F202-8A47-4489-8C69-CC7DD174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73CC-31CF-46F4-A496-09F593EE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041C-6AFF-4307-987C-097B1F12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AF7C-06B9-4AEF-8629-A4A96E26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D4AA-E2E7-450F-8B1F-6B18486B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927EB-17A6-41C0-8DF4-22550BBA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E8B6-6491-4C33-8F6F-B831022A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CC24-3C19-4B09-AAE2-9457F2F82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5616-4A9C-46A7-AD9C-9319A3798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3096-04FF-4979-9359-377378C7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A735-0434-4640-9152-B6340E4F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397D-4149-4DA1-9B16-71187E8D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39C8-FD08-4C3E-8176-F30FDA49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6190-EDED-4D59-A5DE-B2D35B05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B575-5C55-4360-AA2D-21E659F0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2185-8C07-48C2-AC9E-26750899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C4EA-3290-4C77-B4AD-7378C393EB3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2F03-E907-4FFF-99BF-26855BD4A8A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Firewall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61760" y="2895120"/>
            <a:ext cx="4012920" cy="18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esented by: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arah Castro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Karen Correa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Kelley Gate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285732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FIREWALLS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Personal Firewall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Software-only solutions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No external devices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Easy to install and upgrade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Protects against: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Worms, Trojan horses, and spyware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Examples: ZoneAlarm, BlackIce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Advantages, Disadvantages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rewall Applian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Specialized hardware devices, sometimes part of SOHO router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Can be Plug and Play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Provide NAT and TCP port inspection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DMZ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Example: NetGear, Linksys etc.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urnkey Solu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urnkey solutions combine (arguably) the best of both Appliance and Software-only solutions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ider range of services offere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ore expensive, greater number of componen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fferences between software and hardware firewall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696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 webpag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vel of Prote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ageab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st Analy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ature Set Comparis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uture Outloo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ade Summa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956120" y="2898720"/>
            <a:ext cx="3378240" cy="711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257800" y="4419720"/>
            <a:ext cx="2730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MEMB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The use of firewalls presents a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radeoff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between service and protection.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Decide what your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optimal balance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between security and service is!!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Arial"/>
              </a:rPr>
              <a:t>Implementing a firewall is a great tool for security purposes</a:t>
            </a:r>
            <a:endParaRPr b="0" lang="en-US" sz="3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BUT, DO EXPECT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FAILURE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PLAN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FOR THE WORS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Questions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undamentals of Firewal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419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hat is a firewall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 firewall is a software or hardware that prevents unauthorized access, and enforces an access control party between two networks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 firewall imposes its policy on everything behind it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YOU – the user decides the policy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248440" y="3157560"/>
            <a:ext cx="279396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y do we need a firewall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To prevent certain types of data from getting in or out of particular areas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Security between the outside world and your network, especially protection from most Internet security threats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Firewalls keep damage on one part of the network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does a firewall protect against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curity threats posed by the Interne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nauthenticated interactive login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pplication backdoor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MTP session hijackin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Operating system bug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nial of servic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-mail bomb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acro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iruse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pam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edirect bomb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ource routin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does a firewall not protect against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ertain class of threats such as inside attacks, and Outside attacks that it cannot det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unneling over most application protocols to trojaned or poorly written cli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ta-driven attacks- something is mailed or copied to an internal host where it is then executed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Past occurrences against OutLo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SI MODEL &amp; FIREWALLS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acket Filter Firewall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k at network lay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ually routers and firewall applian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an IP header in rule base fo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urce IP addres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stination IP addres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CP/UDP source por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CP/UDP destination po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ple on we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ircuit Level Gateway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k in session layer of the OSI model (~ transport layer of the TCP/IP mode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sures that the session between two end users is legitim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ever, no further processing or filtering of individual packets is don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pplication Level Gateway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ork in application lay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Usually proxy servers, also personal firewall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High level of securit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an slow down network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Example: Proxy Server and DMZ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ateful Multilayer Inspection Firewall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ombination of the abov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High level of security, and good performan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Expensiv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omplex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3:15:48Z</dcterms:created>
  <dc:creator>IT Public Labs</dc:creator>
  <dc:description/>
  <dc:language>en-US</dc:language>
  <cp:lastModifiedBy>USA Group Lab</cp:lastModifiedBy>
  <dcterms:modified xsi:type="dcterms:W3CDTF">2002-11-24T22:54:18Z</dcterms:modified>
  <cp:revision>52</cp:revision>
  <dc:subject/>
  <dc:title>SOHO Firewal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