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389-7C20-46DA-B250-FF6F6C32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99E-6768-474C-872C-BA284FBF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8B4-1401-47C1-BF25-0B245E77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381-0979-4ADD-9856-14EA996B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CCD-536E-4772-A159-D379D2C3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522-667C-49E4-BD9E-1CC09CD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E88-6D9C-43FE-A596-27F942C7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0A1-D2D5-4F39-990D-27F1062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5A56-4E5E-4067-AF9A-0872B2C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D93-E9A2-4B9E-80D4-65BCD84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5032-F822-47DA-9184-D47E733A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F0A-3D9B-44D5-8DE5-E7251E4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94F6-D3B7-4FA0-9B20-10F05D5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89C-37E7-4ED1-A1F0-F6356E5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AAFC-DA24-4D60-8FC4-055130D4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6A2-9333-4F66-9D72-1256A985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0EB-FBC3-4ABD-8036-91655D98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FA8-F8AB-429F-9756-7B18C764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D65-EBB7-44A0-9387-810F5FD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61C-48DC-427F-9022-09AB7DCD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271-5E0B-4E8A-B310-7212B88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581-62DB-48D6-87CA-77DA380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1AF-8B64-4887-ADCE-3BE6F55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90A-823C-43E1-974B-CAB75D9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FEA7-CA14-4818-876A-545ED9979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4D0-7162-4671-A8D7-F7D7D2742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Maasai of Afric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en Cor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S214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3337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325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407880"/>
            <a:ext cx="77724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320760"/>
            <a:ext cx="77724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54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0106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859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es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nomadic pastor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ern Kenya and northern Tanz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pical Savannah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i-arid l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-74 degree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40 inches rain (November – M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ral 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estock – survival of the Maasai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en and dung 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and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e age-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 were sub-ordinate &amp; subserv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ditional Dress/Appear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ed and de-haired animal s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nimal skin tied over one shou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riors: Small calf- or goat-skin ca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rings and coils around the n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capes after circum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2 leather ap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ils of iron wire on arms and l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ved heads except warr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orn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catrisation &amp; Tattoo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esign with thorns and cut with raz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rcumci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Most important ritual fo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toridectomy performed o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tor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rom iron coils worn by w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lt legs &amp; impaired mo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dornment (contd.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ierc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Wore iron coils, chains, wir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ongation of ear lobes and creation of big 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s a symbol, cure or for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white paint by circumcise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ir dress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nly warriors wore pig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ture of red paint, animal fat and red earth to style hair used by warri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ess/Appearance Toda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ght, colorful red clo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ded ornaments are a very important part of the Maasai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n around neck, wrists, and through ear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rnment: Circumcision &amp; Pierc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s behind the Chang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awareness of the Maas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 and habitat conservation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s for be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ass and plastic beads sold as fashionable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traditional cultures that exist in Africa today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much change in lifestyle or clo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3:28:50Z</dcterms:created>
  <dc:creator>Partha Dhar</dc:creator>
  <dc:description/>
  <dc:language>en-US</dc:language>
  <cp:lastModifiedBy>helpdesk</cp:lastModifiedBy>
  <dcterms:modified xsi:type="dcterms:W3CDTF">2003-12-05T00:05:47Z</dcterms:modified>
  <cp:revision>23</cp:revision>
  <dc:subject/>
  <dc:title>The Maasai of Africa</dc:title>
</cp:coreProperties>
</file>