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054-4F00-4F77-86D7-863EA5A0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CF8-DF8E-4FF5-9DAA-4CAFCA7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EAC-2601-47CD-AF84-B99F5F5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10D-F421-4DA7-9502-4A403529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695C-9186-43D5-8438-39D18E55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F33-0CC7-4DE1-A969-EC3A903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58F-E5A9-496C-AA34-D06E927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882E-0980-433F-BA44-BC53550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E6B3-544A-47A0-BC7A-07E1335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8DF-35CF-409D-BA5E-E5933CCA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954-C7A0-4B23-ACF1-9F50BF4A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76F-7872-4FE9-B785-30E6641D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961-EE95-4CC5-8012-B87897B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D47A-D466-4E4A-8390-E63A875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5D1C-4539-4414-9CF1-753BC89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CAC4-CEAA-4ECA-B32C-5ABC5E48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1832-A3C9-4459-B405-187129A7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83A-865B-424C-BCD8-5FDD5EDC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B34-8EB4-4DC6-834B-7EE021E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22E-1543-43A9-B5D4-8337ED8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A5A-5203-4F9F-9676-1DDA933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586-EB63-4A71-AD6F-E57F5E1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C5B-7586-4038-96B6-97DF3F6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928-750A-45F8-AF97-0EFFE41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13AE-B7E2-4D90-9695-31ECB8A66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4C0-CFD9-47DF-B41F-07894C4C2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Maasai of Afric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en Cor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S214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3337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325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407880"/>
            <a:ext cx="77724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320760"/>
            <a:ext cx="77724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54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0106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859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nomadic pastor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ern Kenya and northern Tan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pical Savannah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i-arid 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-74 degree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40 inches rain (November – M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ral 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estock – survival of the Maasa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en and dung 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and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 age-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 were sub-ordinate &amp; subserv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ditional Dress/Appear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ed and de-haired animal s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imal skin tied over one shou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riors: Small calf- or goat-skin c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rings and coils around the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capes after circum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2 leather ap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ils of iron wire on arms and 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ved heads except warr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orn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catrisation &amp; Tattoo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esign with thorns and cut with raz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rcumci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Most important ritual fo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toridectomy performed o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tor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rom iron coils worn by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lt legs &amp; impaired mo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ornment (contd.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ierc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Wore iron coils, chains, wir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ongation of ear lobes and creation of big 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s a symbol, cure or for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white paint by circumcise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ir dress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nly warriors wore pig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ture of red paint, animal fat and red earth to style hair used by warri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ess/Appearance Toda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ght, colorful red clo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ded ornaments are a very important part of the Maasai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n around neck, wrists, and through ear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rnment: Circumcision &amp; Pierc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s behind the Chang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awareness of the Maas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 and habitat conservation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s for b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ass and plastic beads sold as fashionable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traditional cultures that exist in Africa today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much change in lifestyle or clo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3:28:50Z</dcterms:created>
  <dc:creator>Partha Dhar</dc:creator>
  <dc:description/>
  <dc:language>en-US</dc:language>
  <cp:lastModifiedBy>helpdesk</cp:lastModifiedBy>
  <dcterms:modified xsi:type="dcterms:W3CDTF">2003-12-05T00:05:47Z</dcterms:modified>
  <cp:revision>23</cp:revision>
  <dc:subject/>
  <dc:title>The Maasai of Africa</dc:title>
</cp:coreProperties>
</file>