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925-490D-4E7D-8697-2C3EF0A4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1FA-2CE9-4EB4-A21B-A80926AE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00C-EB64-4E2F-9A4D-44DC6148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C76-049F-4F1B-8E59-E8BC80C5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B399-D7E3-401E-B73F-03D66B96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6F82-7A5F-42A0-A097-4444246E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3336-2B39-45AA-A12A-B1C8B44E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DD6B-C1DC-4F88-9CAA-43357200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95AB-8E41-423D-AF93-9F1AE9D3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080C-6F7B-4771-9327-5D33B9B5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B924-F7F4-4208-96D3-C999F111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55B-F7B6-4FC8-AF2F-E34A1D88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4E9E-B838-4847-AD2B-51B75633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8C67-08AE-4E7A-AD72-8CF31710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66DC-D9A1-432D-986D-225C70C9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02E6-3D32-4CA7-9627-CEC47354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0CB4-9490-4550-A279-6899D4AA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711-449C-48BE-93C1-8CBEDB33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615-F53D-4832-8FC0-13EFBF12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CD4-29EA-401D-8557-171BFDD0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4DA-6A11-429B-A227-42602A1F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190-DDF3-4D61-AEEC-0032079F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C8A-7290-4CD9-933E-6053180E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5DB-BD6B-412C-8DBB-E8692A99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5459-F453-4645-B2D1-FC8BC3221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2F01-0430-4539-808B-16A30EBF74D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RANETS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81280" y="3276720"/>
            <a:ext cx="54086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“PATHS” TO COMPETITIVE ADVANTAGE AND IMPROVED CUSTOMER RELATIONSHIPS</a:t>
            </a:r>
            <a:endParaRPr b="0" lang="en-US" sz="30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RATEGIC COMPETITIVE ADVANTAGE (cont.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-to-the-minute, real-time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r response to demand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inventory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switching costs for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s too difficult to deny or gi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USTOMER RELATIONSHIP MANAGEMENT (CRM)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ommon ground for people most important to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iers, Vendors, Partners,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knowledge of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 orders, seasonal fluctuation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RM (cont.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nets provide true C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/7 order placing, tracking, sh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service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ized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ng “Electronic Embrac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just a marketing tool, but an </a:t>
            </a:r>
            <a:r>
              <a:rPr b="1" lang="en-US" sz="3200" spc="-1" strike="noStrike" u="sng">
                <a:solidFill>
                  <a:srgbClr val="cc0066"/>
                </a:solidFill>
                <a:uFillTx/>
                <a:latin typeface="Times New Roman"/>
              </a:rPr>
              <a:t>INVALUABLE COMMUNICATIONS TOOL AND MUCH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nets reach out to a </a:t>
            </a:r>
            <a:r>
              <a:rPr b="1" lang="en-US" sz="3200" spc="-1" strike="noStrike" u="sng">
                <a:solidFill>
                  <a:srgbClr val="cc0066"/>
                </a:solidFill>
                <a:uFillTx/>
                <a:latin typeface="Times New Roman"/>
              </a:rPr>
              <a:t>DREAM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NTRODUCTION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: Extranet is the extension of the Intranet over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ase studies of companies that developed Extranets – GE, Harley Davidson, and Toshiba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eneral Electric’s Transaction Process Network (TPN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by GE Lighting in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,000 products from 6,000 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saved between $500 million to $700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costs decreased by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deployed 60% of their staff to focus on strategic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ARLEY DAVIDSON’S 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-DNET.CO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DOS bas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used paper fo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ies reading hand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way to track status besides calling the corporate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-DNET.COM (cont.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5, Harley developed H-dnet ($1 bill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be done onl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claims and check claim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parts, view engin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0 dealers in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ranty claims are now processed in 48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claims grew from 52.2% in 1996 to 61.4 % in 199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OSHIBA’s INTERNET FYI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unched in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selling costs decreased by more than 50% - from $1.3M to $6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7 to 2002: 96% of dealers switched toFY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2002: 80% of business through FY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SO, HOW DO EXTRANETS HELP BUSINESSES?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Competitive Advantag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Relationship Management (CRM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RATEGIC COMPETITIVE ADVANTAG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nets help reduc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/ hard copy/ print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processing and track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vial? Think again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costs can decrease revenues by 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nets save employee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customer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RATEGIC COMPETITIVE ADVANTAGE (cont.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Internet (Web Brow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form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02:05:26Z</dcterms:created>
  <dc:creator>Paul Mausel</dc:creator>
  <dc:description/>
  <dc:language>en-US</dc:language>
  <cp:lastModifiedBy>kcorrea</cp:lastModifiedBy>
  <dcterms:modified xsi:type="dcterms:W3CDTF">2003-04-22T13:15:51Z</dcterms:modified>
  <cp:revision>60</cp:revision>
  <dc:subject/>
  <dc:title>EXTRANETS</dc:title>
</cp:coreProperties>
</file>