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F99-AA08-4A50-8466-D06FBC33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06B-FF3E-4864-A9E5-700E8E2E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173-7775-4685-9824-3A47D7FB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E50B-AAB4-4233-96BC-BB6967C0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6C4B-D179-4DE5-B6DA-1EC3C552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73D8-FF45-4455-B6E5-B9F8F23D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75C7-C8DA-4F32-A15D-28FD0EBD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14F0-EF18-499F-B765-66688633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47C3-5EE9-4FF9-84A2-CFCEB6E3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2B73-C05A-49A2-BE4B-8B44BA78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0ED0-F547-457B-B9EC-F1F26B39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61C7-D14D-42FB-8A4C-ED8E0A8E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F96F-719D-4084-9BB4-0CF9DC1F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C133-5F24-4221-8357-60D2C6A8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D00E-2141-4569-8876-E8C3AD2C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E413-E2D8-421A-8E69-D235E89B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A600-902E-45BB-B449-927CF4DD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C6A-B4B7-4E02-A854-F1A09873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2709-435F-42F6-B24E-5B0BC13B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B922-55F8-430F-8154-97A0C990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D45-5DAA-4330-83ED-AB1AFB24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A8A-329A-4D34-95D1-624EC591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6225-7973-4135-B862-3AA9640C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1D3A-6F50-4A0A-ABCC-AF0508E2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2A59-88D6-49EB-8D27-936789502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0039-6B06-4819-A996-88BB63018DB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TRANETS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81280" y="3276720"/>
            <a:ext cx="540864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REA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“PATHS” TO COMPETITIVE ADVANTAGE AND IMPROVED CUSTOMER RELATIONSHIPS</a:t>
            </a:r>
            <a:endParaRPr b="0" lang="en-US" sz="30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RATEGIC COMPETITIVE ADVANTAGE (cont.)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-to-the-minute, real-time in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er response to demand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inventory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switching costs for custo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s too difficult to deny or give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USTOMER RELATIONSHIP MANAGEMENT (CRM)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ommon ground for people most important to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iers, Vendors, Partners,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knowledge of custo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k orders, seasonal fluctuation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RM (cont.)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nets provide true C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/7 order placing, tracking, shi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service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ized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ng “Electronic Embrace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just a marketing tool, but an </a:t>
            </a:r>
            <a:r>
              <a:rPr b="1" lang="en-US" sz="3200" spc="-1" strike="noStrike" u="sng">
                <a:solidFill>
                  <a:srgbClr val="cc0066"/>
                </a:solidFill>
                <a:uFillTx/>
                <a:latin typeface="Times New Roman"/>
              </a:rPr>
              <a:t>INVALUABLE COMMUNICATIONS TOOL AND MUCH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nets reach out to a </a:t>
            </a:r>
            <a:r>
              <a:rPr b="1" lang="en-US" sz="3200" spc="-1" strike="noStrike" u="sng">
                <a:solidFill>
                  <a:srgbClr val="cc0066"/>
                </a:solidFill>
                <a:uFillTx/>
                <a:latin typeface="Times New Roman"/>
              </a:rPr>
              <a:t>DREAM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INTRODUCTION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 Extranet is the extension of the Intranet over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case studies of companies that developed Extranets – GE, Harley Davidson, and Toshiba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eneral Electric’s Transaction Process Network (TPN)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by GE Lighting in 19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,000 products from 6,000 ven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saved between $500 million to $700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 costs decreased by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deployed 60% of their staff to focus on strategic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HARLEY DAVIDSON’S 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H-DNET.CO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: DOS bas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used paper for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ies reading hand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way to track status besides calling the corporate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H-DNET.COM (cont.)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95, Harley developed H-dnet ($1 bill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an be done onli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claims and check claim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 parts, view engin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0 dealers in 6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ranty claims are now processed in 48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claims grew from 52.2% in 1996 to 61.4 % in 199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OSHIBA’s INTERNET FYI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unched in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ual selling costs decreased by more than 50% - from $1.3M to $6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7 to 2002: 96% of dealers switched toFY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2002: 80% of business through FY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SO, HOW DO EXTRANETS HELP BUSINESSES?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 Competitive Advantag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 Relationship Management (CRM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RATEGIC COMPETITIVE ADVANTAG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nets help reduce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er/ hard copy/ printing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processing and tracking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vial? Think again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costs can decrease revenues by 1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nets save employee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on customer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RATEGIC COMPETITIVE ADVANTAGE (cont.)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Internet (Web Brow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form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02:05:26Z</dcterms:created>
  <dc:creator>Paul Mausel</dc:creator>
  <dc:description/>
  <dc:language>en-US</dc:language>
  <cp:lastModifiedBy>kcorrea</cp:lastModifiedBy>
  <dcterms:modified xsi:type="dcterms:W3CDTF">2003-04-22T13:15:51Z</dcterms:modified>
  <cp:revision>60</cp:revision>
  <dc:subject/>
  <dc:title>EXTRANETS</dc:title>
</cp:coreProperties>
</file>