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3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11.png" ContentType="image/png"/>
  <Override PartName="/ppt/media/image7.png" ContentType="image/png"/>
  <Override PartName="/ppt/media/image32.gif" ContentType="image/gif"/>
  <Override PartName="/ppt/media/image22.jpeg" ContentType="image/jpeg"/>
  <Override PartName="/ppt/media/image9.png" ContentType="image/png"/>
  <Override PartName="/ppt/media/image33.jpeg" ContentType="image/jpeg"/>
  <Override PartName="/ppt/media/image34.gif" ContentType="image/gif"/>
  <Override PartName="/ppt/media/image36.wmf" ContentType="image/x-wmf"/>
  <Override PartName="/ppt/media/image16.jpeg" ContentType="image/jpeg"/>
  <Override PartName="/ppt/media/image37.gif" ContentType="image/gif"/>
  <Override PartName="/ppt/media/image8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28.png" ContentType="image/png"/>
  <Override PartName="/ppt/media/image31.wmf" ContentType="image/x-wmf"/>
  <Override PartName="/ppt/media/image1.wmf" ContentType="image/x-wmf"/>
  <Override PartName="/ppt/media/image15.png" ContentType="image/pn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F4B-0E8F-4227-8267-CB089BB1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E601-4197-45EC-B433-50BB393A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9ED-8681-4D58-BF9F-554958E1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82E-7DB3-4693-9144-DED4180D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1373-CCE9-4775-9C4B-D28BCEE5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61B4-0614-4E88-9C0F-7111F2F5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313D-2F56-489E-AA59-72346120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F8CD-D7D8-4D24-812C-9DC20F9B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6844-AA8A-45D8-9E71-C1894C5C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A5A8-EEE9-4542-83BF-ACF2B694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ABF8-B1F3-4427-A221-71601A2C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C9B-7EC3-49F5-AAE2-263A3B6A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B6A1-A8A9-41F9-8BD3-11F12EE3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6806-2F59-42A6-A6E5-BA75CCBD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1361-4BC6-4B52-AC7C-3FA3A5ED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3412-EEDF-41B9-A84A-C5A75A44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72D0-1109-4B59-8660-9835CC56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31C-DCA2-4DB6-B2E3-E688B495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EBE-1FEF-4FF7-B0E6-A4FDC4CF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4D5-9A2B-4685-BA26-0072DFCD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853-DBFB-4292-9EC9-F9A64059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BCC-F4FA-4A22-977A-84D1DF77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45E-9D03-406D-831E-9EB05ACF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802E-E6EE-4B33-AC2C-1D957B9A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B3D2-A486-46D7-AFFE-96A5B95607A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0356-0D93-43CA-A7CC-B11B21EBC94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3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3.pn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34.gi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DOING BUSINESS IN JAPA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18960" y="4876920"/>
            <a:ext cx="564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Karen Corre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Laurence Dervai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Chris Fredrick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Kraig McConiha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4191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Transport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hinkansen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: Electro magnetic trai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"Tokido”: Shinkansen train running from Tokyo to Osaka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ther types of transportations are taxis, buses and airplanes etc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62520" y="3886200"/>
          <a:ext cx="3485880" cy="253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2520" y="3886200"/>
                    <a:ext cx="348588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Relig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uddhis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hintois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nfucianis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hristian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sla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3276720" y="3124080"/>
            <a:ext cx="434340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National Holiday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Jan 1: New Year’s Day (o-shogatsu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eb 11: National Foundation D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pril 29 – May 5: Golden Wee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y 3: Constitution D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July 13 – 16: O-bon, festival of the dea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c 23: Emperor Akihito’s Birthd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Obon - early evening scene"/>
          <p:cNvPicPr/>
          <p:nvPr/>
        </p:nvPicPr>
        <p:blipFill>
          <a:blip r:embed="rId7"/>
          <a:stretch/>
        </p:blipFill>
        <p:spPr>
          <a:xfrm>
            <a:off x="3200400" y="4387680"/>
            <a:ext cx="43038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Electricit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00 Vol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ny hotels have 110-120V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arying frequenc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50 Hz to 60Hz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ake a Voltage Converter to protect equipm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Flat blade plug w/ ground"/>
          <p:cNvPicPr/>
          <p:nvPr/>
        </p:nvPicPr>
        <p:blipFill>
          <a:blip r:embed="rId6"/>
          <a:stretch/>
        </p:blipFill>
        <p:spPr>
          <a:xfrm>
            <a:off x="5486400" y="1066680"/>
            <a:ext cx="1998720" cy="2133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Flat blade plug"/>
          <p:cNvPicPr/>
          <p:nvPr/>
        </p:nvPicPr>
        <p:blipFill>
          <a:blip r:embed="rId7"/>
          <a:stretch/>
        </p:blipFill>
        <p:spPr>
          <a:xfrm>
            <a:off x="1295280" y="4724280"/>
            <a:ext cx="2743200" cy="1440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Teleplug-In: Japan"/>
          <p:cNvPicPr/>
          <p:nvPr/>
        </p:nvPicPr>
        <p:blipFill>
          <a:blip r:embed="rId8"/>
          <a:stretch/>
        </p:blipFill>
        <p:spPr>
          <a:xfrm>
            <a:off x="5257800" y="3809880"/>
            <a:ext cx="2019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Toile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fferent from those in the U.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amiliarize yourselves with using the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en visiting homes, wear toilet slippers provid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3505320" y="3733920"/>
            <a:ext cx="403848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Emergency Numb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ll free Numb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lice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ire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1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mbulance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1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Preparation for Business Dealing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General Concep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group is more important than the individual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void confrontations/ direct quest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atu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rong sense of hierarchy, rank or posit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usiness Attir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ress Code: Business Professional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ress Conservative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omen: Wear jewellery, makeup, and perfume sparing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4627440" y="3505320"/>
            <a:ext cx="24750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usiness Attire (cont.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423216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ake off shoes in temples and hou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lip-on shoes and good supply of clean sock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earing a Yukata (robe) in traditional inns (ryokan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rap left over righ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4648320" y="1676520"/>
            <a:ext cx="2963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eneral Inform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eparation for Business Dealing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usiness Meeting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usiness Entertain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usiness Cards (Meishi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esent and receive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meish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with both hands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int Japanese on one sid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udy the business car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clude important inform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Women in Busines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72039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form them of your status as early as possib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monstrate skills and professional competen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intain a restrained, dignified mann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earn about Japanese cultu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Bride with traditional make-up. Tokyo, Japan"/>
          <p:cNvPicPr/>
          <p:nvPr/>
        </p:nvPicPr>
        <p:blipFill>
          <a:blip r:embed="rId5"/>
          <a:stretch/>
        </p:blipFill>
        <p:spPr>
          <a:xfrm>
            <a:off x="5562720" y="4114800"/>
            <a:ext cx="1673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Appointme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unctualit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all personal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cheduling appointments: Avoi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ew Year, Dec. 28 to Jan. 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olden Week, April 29 to May 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-bon, mid-Augus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ffice hours: 9:00 a.m. to 5:00 or 5:30 p.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Gift Giv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mportant Japanese business protoco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ritual of gift-giving is more important than the gift itself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1311"/>
                </a:solidFill>
                <a:latin typeface="Arial"/>
              </a:rPr>
              <a:t>Present gifts with both hands privately 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1311"/>
                </a:solidFill>
                <a:latin typeface="Arial"/>
              </a:rPr>
              <a:t>Different gifts for unequal ranks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fore accepting, refuse modest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5715000" y="4876920"/>
            <a:ext cx="18432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Good and Bad Gif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25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Goo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ourmet foodstuffs, fresh frui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lectronic toy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uff link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omething that reflects the interests and tastes of the recipi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 simple commemorative photograph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024080" y="1598760"/>
            <a:ext cx="3625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Ba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ite flowers of any kind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iving four or nine of anything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d Christmas card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usiness Meeting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usiness Seating Ord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810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Standing/ sitting in order of seniority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1311"/>
                </a:solidFill>
                <a:latin typeface="Arial"/>
              </a:rPr>
              <a:t>Face equally ranked counterpart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1311"/>
                </a:solidFill>
                <a:latin typeface="Arial"/>
              </a:rPr>
              <a:t>Exchange Meishi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1311"/>
                </a:solidFill>
                <a:latin typeface="Arial"/>
              </a:rPr>
              <a:t>Visiting side gets good side of room</a:t>
            </a:r>
            <a:endParaRPr b="0" lang="en-US" sz="27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ide facing window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038480" y="1905120"/>
          <a:ext cx="3657600" cy="317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38480" y="1905120"/>
                    <a:ext cx="365760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usiness Dealing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frain discussing business for first 15 minu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Start after “Jitsu wa ne” meaning “the fact of the matter is”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ddress the most senior member firs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void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accusations/ direct refusals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tmosphere of grave seriousnes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Avoid Western jokes 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f1311"/>
                </a:solidFill>
                <a:latin typeface="Arial"/>
              </a:rPr>
              <a:t>Light humor OK during breaks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usiness Dealings (cont.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aving Face”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ide moods, anger etc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very word said is taken literal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 ex: “This is killing me” or “This is the bomb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Remember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nvening among themselves, the Japanese will go over your proposal in painstaking detail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Decisions and Contrac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667044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roup decision-mak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 not push for an answ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ait for consensu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ral agreements preferr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-negotiab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5105520" y="4191120"/>
            <a:ext cx="23050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General Inform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onversa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llo = “konnichiwa”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ood evening = “konbanwa”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rect remarks to senior memb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requently say “I’m sorry” (Go Men Na Sa I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void complex jokes/ sarcas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 not talk about WW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Names &amp; Titl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ame order: Last name  First na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ttach an appropriate title to the last nam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an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 the most neutral and famous titl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ama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 more polite form of san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 not add a title to your own na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ows and Gestur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ost important part of Japanese etiquet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hows respect, humil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ow in addition to shaking hand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ow lower to someone of higher statu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lso, if uncerta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void unusual facial express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: Winking, shrugging should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ows and Gestures (cont.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2435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Business Entertain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Dining Ou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162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lways be punctu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e prepared to sit at very low traditional tabl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aking a Japanese businessperson to lunch/dinn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elect restaurant of your own cultu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tadakimasu &amp; gochisosam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3276720" y="4343400"/>
            <a:ext cx="4190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Dining Out (cont.)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7203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per usage of chopstick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rink responsib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ying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st always pay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Bring your bill to the cashie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ay right after ordering or at vending machin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ipping not necessar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8"/>
          <a:stretch/>
        </p:blipFill>
        <p:spPr>
          <a:xfrm>
            <a:off x="3048120" y="4724280"/>
            <a:ext cx="453384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Karaoke Ba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5660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ing along to popular song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omen are not allowed at geisha houses and sumo wrestling figh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886200" y="3657600"/>
            <a:ext cx="36180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Making a Toas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ay “Kampai”, meaning Che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ost sips firs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242712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Geograph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7238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Thousands of islands; four largest islands: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Honshu, Hokkaido, Kyushu and Shikoku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Bordered by the Sea of Japan, East China Sea, and the Pacific Ocean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Smaller than California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378,000 sq km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Population of Japan: 125,000,000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1828800" y="3733920"/>
            <a:ext cx="46483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Public Behavio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 polite alway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ways bow [“ojigi” (oh-jee-ghee)]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o spitting, snorting or blowing your nose in publi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mile to mask displeasu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rect eye-contact now comm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los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owing is extremely importa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ow respect and humility alway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roup is more important than the individua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aving Face” is a very important concep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lima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Varying climate: Temperate to sub-tropi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 seasons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summer is hot and humid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inters are mil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pring is Rain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all brings Typho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Major Citi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343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okyo - 8.0 mill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Yokohama - 3.4 mill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saka - 2.5 mill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agoya - 2.1 mill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apporo - 1.8 mill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Kobe - 1.5 mill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Kyoto - 1.4 mill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Immeubles et publicites, Shinjuku, Tokyo, Japon."/>
          <p:cNvPicPr/>
          <p:nvPr/>
        </p:nvPicPr>
        <p:blipFill>
          <a:blip r:embed="rId8"/>
          <a:stretch/>
        </p:blipFill>
        <p:spPr>
          <a:xfrm>
            <a:off x="3886200" y="3886200"/>
            <a:ext cx="36180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Econom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orld’s 2</a:t>
            </a:r>
            <a:r>
              <a:rPr b="0" lang="en-US" sz="3200" spc="-1" strike="noStrike" baseline="30000">
                <a:solidFill>
                  <a:srgbClr val="2f1311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largest econom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ome of the world’s largest industr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otor vehicles and electronic equipm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2002: GDP = $3.55 trill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conomy grew 0.8 percent in the September quarter in 2002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blems faced: Deflation, record unemployment, bad loa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urrenc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537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f1311"/>
                </a:solidFill>
                <a:latin typeface="Arial"/>
              </a:rPr>
              <a:t>Japanese currency: YEN </a:t>
            </a:r>
            <a:endParaRPr b="0" lang="en-US" sz="3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f1311"/>
                </a:solidFill>
                <a:latin typeface="Arial"/>
              </a:rPr>
              <a:t>$1 ~ 130 YEN </a:t>
            </a:r>
            <a:endParaRPr b="0" lang="en-US" sz="33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914400" y="3048120"/>
            <a:ext cx="5715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urrency (cont.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f1311"/>
                </a:solidFill>
                <a:latin typeface="Arial"/>
              </a:rPr>
              <a:t>Better take plenty with you</a:t>
            </a:r>
            <a:endParaRPr b="0" lang="en-US" sz="3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senennn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200400" cy="1698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33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ichimannenn" descr=""/>
          <p:cNvPicPr/>
          <p:nvPr/>
        </p:nvPicPr>
        <p:blipFill>
          <a:blip r:embed="rId3"/>
          <a:stretch/>
        </p:blipFill>
        <p:spPr>
          <a:xfrm>
            <a:off x="4038480" y="4648320"/>
            <a:ext cx="32767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20:17:33Z</dcterms:created>
  <dc:creator>IT Public Labs</dc:creator>
  <dc:description/>
  <dc:language>en-US</dc:language>
  <cp:lastModifiedBy>OIT Help Desk</cp:lastModifiedBy>
  <dcterms:modified xsi:type="dcterms:W3CDTF">2003-04-24T21:42:18Z</dcterms:modified>
  <cp:revision>126</cp:revision>
  <dc:subject/>
  <dc:title>Slide 1</dc:title>
</cp:coreProperties>
</file>