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wmf" ContentType="image/x-wmf"/>
  <Override PartName="/ppt/media/image23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0.jpeg" ContentType="image/jpeg"/>
  <Override PartName="/ppt/media/image30.png" ContentType="image/png"/>
  <Override PartName="/ppt/media/image5.png" ContentType="image/png"/>
  <Override PartName="/ppt/media/image35.jpeg" ContentType="image/jpeg"/>
  <Override PartName="/ppt/media/image11.png" ContentType="image/png"/>
  <Override PartName="/ppt/media/image7.png" ContentType="image/png"/>
  <Override PartName="/ppt/media/image32.gif" ContentType="image/gif"/>
  <Override PartName="/ppt/media/image22.jpeg" ContentType="image/jpeg"/>
  <Override PartName="/ppt/media/image9.png" ContentType="image/png"/>
  <Override PartName="/ppt/media/image33.jpeg" ContentType="image/jpeg"/>
  <Override PartName="/ppt/media/image34.gif" ContentType="image/gif"/>
  <Override PartName="/ppt/media/image36.wmf" ContentType="image/x-wmf"/>
  <Override PartName="/ppt/media/image16.jpeg" ContentType="image/jpeg"/>
  <Override PartName="/ppt/media/image37.gif" ContentType="image/gif"/>
  <Override PartName="/ppt/media/image8.png" ContentType="image/png"/>
  <Override PartName="/ppt/media/image14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jpeg" ContentType="image/jpeg"/>
  <Override PartName="/ppt/media/image28.png" ContentType="image/png"/>
  <Override PartName="/ppt/media/image31.wmf" ContentType="image/x-wmf"/>
  <Override PartName="/ppt/media/image1.wmf" ContentType="image/x-wmf"/>
  <Override PartName="/ppt/media/image15.png" ContentType="image/pn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BA4D-4EC4-4E56-A698-AE466E31F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B219-85AC-4367-8DF6-BCAC44C2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3D8E-1156-4909-BC3C-F76167081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5F06-0556-428B-BE96-9612C5780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2987-1CB5-4FC6-9FDD-EFB97886C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1EB2E-4680-48A4-9177-B769C245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77A7-EC16-4C36-AEB2-747DD01E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F1ACD-52BF-405B-8768-C0D184F2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06EB-F517-4E07-A582-D73CF6E1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70C5-D4D6-42BA-845F-76FFD765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91EB-9E56-471E-A6CF-75F2E688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0675-EC11-447B-8661-FC4E8FE8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2014C-B57B-41A7-83C1-A55CEBCF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EA955-C729-49DE-B5C5-25102F19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10CB-1A4B-4342-BE1C-405F1A05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B5A0-63AD-4342-864B-42D8A7FFD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42A8-0EAA-4DA5-A4E4-5F4149E57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F1DE-2689-480A-8115-024646E2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4241-21BD-4F33-B626-FE55FD26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DC66-C74E-47FF-96ED-E8F98FD8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469C-3118-43EB-930C-6D9B6F8F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7730-6FBD-4886-A7E5-469A984E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641E-1B3A-4E93-82CB-640424C6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C6DD-2962-4610-B286-8723B4C9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94F9-BBC7-477E-8EF3-5ECF75F29926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FDD2-360C-4596-AD0C-D9379005A89D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3.png"/><Relationship Id="rId4" Type="http://schemas.openxmlformats.org/officeDocument/2006/relationships/image" Target="../media/image18.png"/><Relationship Id="rId5" Type="http://schemas.openxmlformats.org/officeDocument/2006/relationships/image" Target="../media/image3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3.png"/><Relationship Id="rId4" Type="http://schemas.openxmlformats.org/officeDocument/2006/relationships/image" Target="../media/image18.pn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3.png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8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34.gif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DOING BUSINESS IN JAPA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218960" y="4876920"/>
            <a:ext cx="5640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Karen Corre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Laurence Dervain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Chris Fredrick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Kraig McConihay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41911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Transportat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7315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Shinkansen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: Electro magnetic train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"Tokido”: Shinkansen train running from Tokyo to Osaka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Other types of transportations are taxis, buses and airplanes etc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962520" y="3886200"/>
          <a:ext cx="3485880" cy="253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62520" y="3886200"/>
                    <a:ext cx="3485880" cy="25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Relig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Buddhism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hintoism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onfucianism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hristianit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slam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3276720" y="3124080"/>
            <a:ext cx="4343400" cy="32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National Holiday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73915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Jan 1: New Year’s Day (o-shogatsu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Feb 11: National Foundation Da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pril 29 – May 5: Golden Week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ay 3: Constitution Da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July 13 – 16: O-bon, festival of the dea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ec 23: Emperor Akihito’s Birthda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6" name="" descr="Obon - early evening scene"/>
          <p:cNvPicPr/>
          <p:nvPr/>
        </p:nvPicPr>
        <p:blipFill>
          <a:blip r:embed="rId7"/>
          <a:stretch/>
        </p:blipFill>
        <p:spPr>
          <a:xfrm>
            <a:off x="3200400" y="4387680"/>
            <a:ext cx="430380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Electricity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8765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100 Volt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Many hotels have 110-120V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Varying frequenc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50 Hz to 60Hz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ake a Voltage Converter to protect equipmen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9" name="" descr="Flat blade plug w/ ground"/>
          <p:cNvPicPr/>
          <p:nvPr/>
        </p:nvPicPr>
        <p:blipFill>
          <a:blip r:embed="rId6"/>
          <a:stretch/>
        </p:blipFill>
        <p:spPr>
          <a:xfrm>
            <a:off x="5486400" y="1066680"/>
            <a:ext cx="1998720" cy="21337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Flat blade plug"/>
          <p:cNvPicPr/>
          <p:nvPr/>
        </p:nvPicPr>
        <p:blipFill>
          <a:blip r:embed="rId7"/>
          <a:stretch/>
        </p:blipFill>
        <p:spPr>
          <a:xfrm>
            <a:off x="1295280" y="4724280"/>
            <a:ext cx="2743200" cy="1440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Teleplug-In: Japan"/>
          <p:cNvPicPr/>
          <p:nvPr/>
        </p:nvPicPr>
        <p:blipFill>
          <a:blip r:embed="rId8"/>
          <a:stretch/>
        </p:blipFill>
        <p:spPr>
          <a:xfrm>
            <a:off x="5257800" y="3809880"/>
            <a:ext cx="20192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Toilet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7086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ifferent from those in the U.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Familiarize yourselves with using them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hen visiting homes, wear toilet slippers provide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3505320" y="3733920"/>
            <a:ext cx="403848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Emergency Number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oll free Number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olice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11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Fire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119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mbulance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119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Preparation for Business Dealing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General Concept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group is more important than the individual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void confrontations/ direct question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tatu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trong sense of hierarchy, rank or position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Business Attir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ress Code: Business Professional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ress Conservativel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omen: Wear jewellery, makeup, and perfume sparingl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4627440" y="3505320"/>
            <a:ext cx="24750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Business Attire (cont.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4232160" cy="35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ake off shoes in temples and hous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lip-on shoes and good supply of clean sock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earing a Yukata (robe) in traditional inns (ryokans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Wrap left over righ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4648320" y="1676520"/>
            <a:ext cx="29638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General Informati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reparation for Business Dealing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usiness Meeting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ommunicati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usiness Entertaini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Business Cards (Meishi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resent and receive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meishi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with both hands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rint Japanese on one sid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tudy the business car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nclude important informati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Women in Busines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7203960" cy="28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nform them of your status as early as possibl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emonstrate skills and professional competenc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aintain a restrained, dignified manne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Learn about Japanese cultur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0" name="" descr="Bride with traditional make-up. Tokyo, Japan"/>
          <p:cNvPicPr/>
          <p:nvPr/>
        </p:nvPicPr>
        <p:blipFill>
          <a:blip r:embed="rId5"/>
          <a:stretch/>
        </p:blipFill>
        <p:spPr>
          <a:xfrm>
            <a:off x="5562720" y="4114800"/>
            <a:ext cx="1673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Appointment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unctualit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all personall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cheduling appointments: Avoi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New Year, Dec. 28 to Jan. 3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Golden Week, April 29 to May 5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O-bon, mid-Augus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Office hours: 9:00 a.m. to 5:00 or 5:30 p.m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Gift Giv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69343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mportant Japanese business protoco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ritual of gift-giving is more important than the gift itself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690840" indent="-265680"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f1311"/>
                </a:solidFill>
                <a:latin typeface="Arial"/>
              </a:rPr>
              <a:t>Present gifts with both hands privately </a:t>
            </a:r>
            <a:endParaRPr b="0" lang="en-US" sz="2700" spc="-1" strike="noStrike">
              <a:solidFill>
                <a:srgbClr val="2f1311"/>
              </a:solidFill>
              <a:latin typeface="Arial"/>
            </a:endParaRPr>
          </a:p>
          <a:p>
            <a:pPr lvl="1" marL="690840" indent="-265680"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f1311"/>
                </a:solidFill>
                <a:latin typeface="Arial"/>
              </a:rPr>
              <a:t>Different gifts for unequal ranks</a:t>
            </a:r>
            <a:endParaRPr b="0" lang="en-US" sz="27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efore accepting, refuse modestl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6"/>
          <a:stretch/>
        </p:blipFill>
        <p:spPr>
          <a:xfrm>
            <a:off x="5715000" y="4876920"/>
            <a:ext cx="184320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Good and Bad Gift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259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Good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Gourmet foodstuffs, fresh frui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Electronic toys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Cuff link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omething that reflects the interests and tastes of the recipien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A simple commemorative photograph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024080" y="1598760"/>
            <a:ext cx="36255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Ba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hite flowers of any kind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Giving four or nine of anything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ed Christmas card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Business Meeting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Business Seating Order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38102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311"/>
                </a:solidFill>
                <a:latin typeface="Arial"/>
              </a:rPr>
              <a:t>Standing/ sitting in order of seniority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f1311"/>
                </a:solidFill>
                <a:latin typeface="Arial"/>
              </a:rPr>
              <a:t>Face equally ranked counterpart</a:t>
            </a:r>
            <a:endParaRPr b="0" lang="en-US" sz="27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f1311"/>
                </a:solidFill>
                <a:latin typeface="Arial"/>
              </a:rPr>
              <a:t>Exchange Meishi</a:t>
            </a:r>
            <a:endParaRPr b="0" lang="en-US" sz="27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f1311"/>
                </a:solidFill>
                <a:latin typeface="Arial"/>
              </a:rPr>
              <a:t>Visiting side gets good side of room</a:t>
            </a:r>
            <a:endParaRPr b="0" lang="en-US" sz="27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ide facing window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4038480" y="1905120"/>
          <a:ext cx="3657600" cy="3174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038480" y="1905120"/>
                    <a:ext cx="3657600" cy="31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Business Dealing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efrain discussing business for first 15 minut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f1311"/>
                </a:solidFill>
                <a:latin typeface="Arial"/>
              </a:rPr>
              <a:t>Start after “Jitsu wa ne” meaning “the fact of the matter is”</a:t>
            </a:r>
            <a:endParaRPr b="0" lang="en-US" sz="25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ddress the most senior member firs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void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f1311"/>
                </a:solidFill>
                <a:latin typeface="Arial"/>
              </a:rPr>
              <a:t>accusations/ direct refusals</a:t>
            </a:r>
            <a:endParaRPr b="0" lang="en-US" sz="25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tmosphere of grave seriousnes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f1311"/>
                </a:solidFill>
                <a:latin typeface="Arial"/>
              </a:rPr>
              <a:t>Avoid Western jokes </a:t>
            </a:r>
            <a:endParaRPr b="0" lang="en-US" sz="25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f1311"/>
                </a:solidFill>
                <a:latin typeface="Arial"/>
              </a:rPr>
              <a:t>Light humor OK during breaks</a:t>
            </a:r>
            <a:endParaRPr b="0" lang="en-US" sz="25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Business Dealings (cont.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aving Face”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ide moods, anger etc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Every word said is taken literall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For ex: “This is killing me” or “This is the bomb”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Remember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onvening among themselves, the Japanese will go over your proposal in painstaking detail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Decisions and Contract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667044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Group decision-maki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o not push for an answe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ait for consensu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Oral agreements preferre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e-negotiabl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6"/>
          <a:stretch/>
        </p:blipFill>
        <p:spPr>
          <a:xfrm>
            <a:off x="5105520" y="4191120"/>
            <a:ext cx="2305080" cy="23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General Informat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Communicat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Conversation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ello = “konnichiwa”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good evening = “konbanwa”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irect remarks to senior membe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requently say “I’m sorry” (Go Men Na Sa I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void complex jokes/ sarcasm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o not talk about WW2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Names &amp; Titl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Name order: Last name  First nam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ttach an appropriate title to the last name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San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: the most neutral and famous title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Sama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: more polite form of san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o not add a title to your own nam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Bows and Gestur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ost important part of Japanese etiquett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hows respect, humilit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Bow in addition to shaking hand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ow lower to someone of higher statu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lso, if uncertai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void unusual facial expression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x: Winking, shrugging shoulder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Bows and Gestures (cont.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2895480" y="1676520"/>
            <a:ext cx="24354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Business Entertain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Dining Ou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71629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lways be punctua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Be prepared to sit at very low traditional tabl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aking a Japanese businessperson to lunch/dinne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elect restaurant of your own cultur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tadakimasu &amp; gochisosam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6"/>
          <a:stretch/>
        </p:blipFill>
        <p:spPr>
          <a:xfrm>
            <a:off x="3276720" y="4343400"/>
            <a:ext cx="41907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Dining Out (cont.)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72039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roper usage of chopstick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rink responsibl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aying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Host always pay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Bring your bill to the cashier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Pay right after ordering or at vending machin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ipping not necessary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8"/>
          <a:stretch/>
        </p:blipFill>
        <p:spPr>
          <a:xfrm>
            <a:off x="3048120" y="4724280"/>
            <a:ext cx="4533840" cy="18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Karaoke Bar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63160" y="1598400"/>
            <a:ext cx="7356600" cy="19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ing along to popular song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omen are not allowed at geisha houses and sumo wrestling fight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3886200" y="3657600"/>
            <a:ext cx="361800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Making a Toas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ay “Kampai”, meaning Cheer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ost sips firs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4419720" y="2666880"/>
            <a:ext cx="2427120" cy="34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Geography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72388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1311"/>
                </a:solidFill>
                <a:latin typeface="Arial"/>
              </a:rPr>
              <a:t>Thousands of islands; four largest islands: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SzPct val="1047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1311"/>
                </a:solidFill>
                <a:latin typeface="Arial"/>
              </a:rPr>
              <a:t>Honshu, Hokkaido, Kyushu and Shikoku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1311"/>
                </a:solidFill>
                <a:latin typeface="Arial"/>
              </a:rPr>
              <a:t>Bordered by the Sea of Japan, East China Sea, and the Pacific Ocean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SzPct val="1266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1311"/>
                </a:solidFill>
                <a:latin typeface="Arial"/>
              </a:rPr>
              <a:t>Smaller than California: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f1311"/>
                </a:solidFill>
                <a:latin typeface="Arial"/>
              </a:rPr>
              <a:t>378,000 sq km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SzPct val="1266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1311"/>
                </a:solidFill>
                <a:latin typeface="Arial"/>
              </a:rPr>
              <a:t>Population of Japan: 125,000,000 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6"/>
          <a:stretch/>
        </p:blipFill>
        <p:spPr>
          <a:xfrm>
            <a:off x="1828800" y="3733920"/>
            <a:ext cx="464832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Public Behavior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e polite alway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lways bow [“ojigi” (oh-jee-ghee)]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No spitting, snorting or blowing your nose in public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mile to mask displeasur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irect eye-contact now comm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Clos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owing is extremely importan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how respect and humility alway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Group is more important than the individua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aving Face” is a very important concep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Question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33526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Climat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Varying climate: Temperate to sub-tropic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 seasons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e summer is hot and humid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inters are mil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pring is Rain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Fall brings Typhoon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Major Citi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343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okyo - 8.0 million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Yokohama - 3.4 million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Osaka - 2.5 million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Nagoya - 2.1 millio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apporo - 1.8 million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Kobe - 1.5 million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Kyoto - 1.4 million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" descr="Immeubles et publicites, Shinjuku, Tokyo, Japon."/>
          <p:cNvPicPr/>
          <p:nvPr/>
        </p:nvPicPr>
        <p:blipFill>
          <a:blip r:embed="rId8"/>
          <a:stretch/>
        </p:blipFill>
        <p:spPr>
          <a:xfrm>
            <a:off x="3886200" y="3886200"/>
            <a:ext cx="361800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Economy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orld’s 2</a:t>
            </a:r>
            <a:r>
              <a:rPr b="0" lang="en-US" sz="3200" spc="-1" strike="noStrike" baseline="30000">
                <a:solidFill>
                  <a:srgbClr val="2f1311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largest econom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ome of the world’s largest industri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otor vehicles and electronic equipmen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n 2002: GDP = $3.55 trilli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conomy grew 0.8 percent in the September quarter in 2002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roblems faced: Deflation, record unemployment, bad loan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Currency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5375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2f1311"/>
                </a:solidFill>
                <a:latin typeface="Arial"/>
              </a:rPr>
              <a:t>Japanese currency: YEN </a:t>
            </a:r>
            <a:endParaRPr b="0" lang="en-US" sz="33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2f1311"/>
                </a:solidFill>
                <a:latin typeface="Arial"/>
              </a:rPr>
              <a:t>$1 ~ 130 YEN </a:t>
            </a:r>
            <a:endParaRPr b="0" lang="en-US" sz="33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914400" y="3048120"/>
            <a:ext cx="5715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Currency (cont.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2f1311"/>
                </a:solidFill>
                <a:latin typeface="Arial"/>
              </a:rPr>
              <a:t>Better take plenty with you</a:t>
            </a:r>
            <a:endParaRPr b="0" lang="en-US" sz="3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senennn" descr=""/>
          <p:cNvPicPr/>
          <p:nvPr/>
        </p:nvPicPr>
        <p:blipFill>
          <a:blip r:embed="rId2"/>
          <a:stretch/>
        </p:blipFill>
        <p:spPr>
          <a:xfrm>
            <a:off x="533520" y="2590920"/>
            <a:ext cx="3200400" cy="16984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0" y="336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6" name="ichimannenn" descr=""/>
          <p:cNvPicPr/>
          <p:nvPr/>
        </p:nvPicPr>
        <p:blipFill>
          <a:blip r:embed="rId3"/>
          <a:stretch/>
        </p:blipFill>
        <p:spPr>
          <a:xfrm>
            <a:off x="4038480" y="4648320"/>
            <a:ext cx="327672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1T20:17:33Z</dcterms:created>
  <dc:creator>IT Public Labs</dc:creator>
  <dc:description/>
  <dc:language>en-US</dc:language>
  <cp:lastModifiedBy>OIT Help Desk</cp:lastModifiedBy>
  <dcterms:modified xsi:type="dcterms:W3CDTF">2003-04-24T21:42:18Z</dcterms:modified>
  <cp:revision>126</cp:revision>
  <dc:subject/>
  <dc:title>Slide 1</dc:title>
</cp:coreProperties>
</file>