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3A39-4B80-4457-A80D-9C260FFA9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4B89-3AF9-4DFE-8073-8F77C3F9B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151B-E643-41C0-B93A-94616C0B4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A8EB-9268-4329-8B75-EEBC685A6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D4429-8A0F-446B-83AF-58574CA77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7BF58-91BB-4C5F-88EF-218212D3D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22F0A-0A77-46C8-AA71-666630574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A95DF-A872-459B-B696-0DDFD8A22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DB9A9-EC46-4115-88AA-D68C04E3C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F9154-600C-4CAA-A891-F56309A20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BECD8-67C7-4C8D-9B7D-4F8C748B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E158-F4F8-45C0-8CCF-07A400379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F7FB1-90F8-44EE-A05E-42D84F69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B0943-439E-48EF-8DE4-6ECCF60F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0FF71-1469-4C16-887B-335DE47BE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6CDBB-EA8D-4B4A-BF4E-E83A02B8E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FC0BF-1A45-4060-A61B-8CF009A6A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E31A-E111-4AEB-8EE9-9FB7E37C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BDBB-7353-44E5-ADCD-89E14423B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B5BC-0C41-4D5A-A100-F3620C9FE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7A0D-9628-4B55-A1E0-975A92DBB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391B-38DA-4662-94BD-6774A8D0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D92F-33DC-41F5-8E2A-88FC92DE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019A-9DDA-4149-AE37-CB12EEB3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608AB-AD45-415A-BBE8-7BDC6CBE4E49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c2b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C364B-468E-480F-AC04-782A15FFBA23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1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1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1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1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1" lang="en-US" sz="20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Accelerated Learning Systems</a:t>
            </a:r>
            <a:endParaRPr b="1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057400" y="3657600"/>
            <a:ext cx="4648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In support of the IT 8100 ListServ discussion #2</a:t>
            </a: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5" name=""/>
          <p:cNvSpPr/>
          <p:nvPr/>
        </p:nvSpPr>
        <p:spPr>
          <a:xfrm>
            <a:off x="6019920" y="5334120"/>
            <a:ext cx="228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usan Har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Bei Hu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Technique Classifications</a:t>
            </a: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3 categories</a:t>
            </a: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 Narrow"/>
              </a:rPr>
              <a:t>mental</a:t>
            </a:r>
            <a:endParaRPr b="1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 Narrow"/>
              </a:rPr>
              <a:t>psychological</a:t>
            </a:r>
            <a:endParaRPr b="1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 Narrow"/>
              </a:rPr>
              <a:t>physical</a:t>
            </a:r>
            <a:endParaRPr b="1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d3399"/>
                </a:solidFill>
                <a:latin typeface="Arial Narrow"/>
              </a:rPr>
              <a:t>Please see P. 541-542 for specific techniques.</a:t>
            </a:r>
            <a:endParaRPr b="1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Introduction Guidelines</a:t>
            </a: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37335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Facilitator training or retraining</a:t>
            </a: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Alteration of learning environment</a:t>
            </a: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Modification or redesign of courseware</a:t>
            </a: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602400" y="914400"/>
            <a:ext cx="22924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AL/ DALS is about being in service to the learner and doing what it takes to ensure the learners’ success</a:t>
            </a: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AL/DALS is about teaching people how to think, how to learn, how to create and how to utilize their best potential.</a:t>
            </a: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c2b"/>
                </a:solidFill>
                <a:latin typeface="Arial"/>
              </a:rPr>
              <a:t>Thank you very much for your patience.</a:t>
            </a:r>
            <a:endParaRPr b="1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2743200"/>
            <a:ext cx="308448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What is Accelerated Learning (AL) Systems ?</a:t>
            </a: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It is a research-based technology and an innovative philosophy that, for every style of learning and behavior, uses learners’ </a:t>
            </a: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holistic natural talents</a:t>
            </a: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 to provide them the highest </a:t>
            </a: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learning</a:t>
            </a: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, </a:t>
            </a: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retention</a:t>
            </a: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, and</a:t>
            </a: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 performance</a:t>
            </a: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.(p.529)</a:t>
            </a: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AL System is intended to ...</a:t>
            </a: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recapture the joy in learning</a:t>
            </a: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create a stress-free, positive and healthy learning environment </a:t>
            </a: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enhance learners’ self-esteem</a:t>
            </a: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be learner-centered </a:t>
            </a: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562720" y="3809880"/>
            <a:ext cx="3224160" cy="25894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55308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d3399"/>
                </a:solidFill>
                <a:latin typeface="Comic Sans MS"/>
              </a:rPr>
              <a:t>Learne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DALS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- </a:t>
            </a:r>
            <a:r>
              <a:rPr b="0" lang="en-US" sz="3600" spc="-1" strike="noStrike">
                <a:solidFill>
                  <a:srgbClr val="004c2b"/>
                </a:solidFill>
                <a:latin typeface="Arial"/>
              </a:rPr>
              <a:t>Dynamic Accelerated </a:t>
            </a:r>
            <a:br>
              <a:rPr sz="3600"/>
            </a:br>
            <a:r>
              <a:rPr b="0" lang="en-US" sz="3600" spc="-1" strike="noStrike">
                <a:solidFill>
                  <a:srgbClr val="004c2b"/>
                </a:solidFill>
                <a:latin typeface="Arial"/>
              </a:rPr>
              <a:t>Learning System</a:t>
            </a:r>
            <a:endParaRPr b="0" lang="en-US" sz="36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It is the blending of the myriad techniques based on the AL system theory.</a:t>
            </a: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The techniques are adjusted continually to accommodate learner styles</a:t>
            </a: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The techniques are changing to integrate the latest research achievements </a:t>
            </a: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(p.529)</a:t>
            </a: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DALS as a system</a:t>
            </a: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It is composed of three main classifications of components:</a:t>
            </a: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13160" indent="-27432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 Narrow"/>
              </a:rPr>
              <a:t>Mental</a:t>
            </a:r>
            <a:endParaRPr b="1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lvl="1" marL="713160" indent="-27432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 Narrow"/>
              </a:rPr>
              <a:t>Physical</a:t>
            </a:r>
            <a:endParaRPr b="1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lvl="1" marL="713160" indent="-27432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 Narrow"/>
              </a:rPr>
              <a:t>Psychological</a:t>
            </a:r>
            <a:endParaRPr b="1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29040" indent="-3290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It is an open system which exchanges information with the environment</a:t>
            </a: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29040" indent="-3290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It is open to all related fields</a:t>
            </a: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Research basis of AL</a:t>
            </a: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Split-brain theory</a:t>
            </a: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Regenerative brain theory</a:t>
            </a: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Triune brain theory</a:t>
            </a: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Multiple intelligence theory</a:t>
            </a: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Modality and modeling</a:t>
            </a: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Sensory stimulation</a:t>
            </a: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Cooperative learning</a:t>
            </a: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095880" y="2057400"/>
            <a:ext cx="213372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The Core of AL and DALS</a:t>
            </a: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Learner-centeredness</a:t>
            </a: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 Narrow"/>
              </a:rPr>
              <a:t>change the attitude</a:t>
            </a:r>
            <a:endParaRPr b="1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 Narrow"/>
              </a:rPr>
              <a:t>change the word to “learners”, “performers” instead of “students” and “employees”.</a:t>
            </a:r>
            <a:endParaRPr b="1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 Narrow"/>
              </a:rPr>
              <a:t>Set the stage for learners to experience</a:t>
            </a:r>
            <a:endParaRPr b="1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 Narrow"/>
              </a:rPr>
              <a:t>Let learners use their individual styles of learning</a:t>
            </a:r>
            <a:endParaRPr b="1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Roles in AL system</a:t>
            </a: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The Master Facilitator</a:t>
            </a: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 Narrow"/>
              </a:rPr>
              <a:t>have open mind, commitment and an learner-centered attitude.</a:t>
            </a:r>
            <a:endParaRPr b="1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The Accelerated Performer, Learner and Facilitator (p.538-540)</a:t>
            </a: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010280" y="4780080"/>
            <a:ext cx="2133720" cy="17589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Invisible Communication </a:t>
            </a: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Belief &amp; Expectation has a huge impact on learners’ behavior and achievements</a:t>
            </a: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Negative feelings and attitudes from facilitators are impossible to hide, too.</a:t>
            </a:r>
            <a:endParaRPr b="1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3T01:31:24Z</dcterms:created>
  <dc:creator>Bei Hua</dc:creator>
  <dc:description/>
  <dc:language>en-US</dc:language>
  <cp:lastModifiedBy>Bei Hua</cp:lastModifiedBy>
  <dcterms:modified xsi:type="dcterms:W3CDTF">1999-09-23T02:39:11Z</dcterms:modified>
  <cp:revision>1</cp:revision>
  <dc:subject/>
  <dc:title>Accelerated Learning Syste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bhua@coe.wayne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E:\My Documents\Wayne IT\IT8100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