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1AE-755C-4A86-A1BE-039ABAF0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214-FF99-4B24-9F17-7C264533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F3E-8CE1-4AB5-9D12-699159D2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1BD-7BF7-44A6-B982-B4AC47A6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DF6E-893C-477C-BB03-C20C6A46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FEC9-9BA5-4472-B2F5-0E514000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CB40-3E73-43FD-9262-C15BF95A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AD7A-987A-4BCA-A2C1-0D4547BD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9735-64C3-4689-B641-CB2A0990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F278-A15D-46F5-8CC4-DE761050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4DD1-D3FD-487B-B64B-B619156F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6F3-CE88-4F32-A852-828978C5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9F85-665E-48DC-97A7-6AD9F48F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DD56-E691-464B-A20B-3DD25A23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B852-C99E-46DE-A091-EB2FE03C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32F3-B76A-43DC-8F2A-DB7BCAD2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D938-F781-4B99-925E-AC1D21FB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5194-38B2-4674-8D49-5F347B74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17F-E36D-4830-A736-FE13128C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F84-A351-463C-9CAC-87C59955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0DF-9901-4455-9379-F324B30E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DC4-C488-4CBF-B1DB-19FE4994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BA4-BFFD-4F3E-9C32-98E76537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AC8-918F-45AD-A88C-52F2CA2F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101D-4503-410D-9229-45FF7E047C2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8024-575A-4927-A2D1-AE885B62A44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Accelerated Learning Systems</a:t>
            </a: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3657600"/>
            <a:ext cx="4648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In support of the IT 8100 ListServ discussion #2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53341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usan Ha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ei Hu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Technique Classifications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3 categories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mental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psychological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physical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3399"/>
                </a:solidFill>
                <a:latin typeface="Arial Narrow"/>
              </a:rPr>
              <a:t>Please see P. 541-542 for specific techniques.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Introduction Guidelines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37335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Facilitator training or retraining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Alteration of learning environment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Modification or redesign of courseware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602400" y="914400"/>
            <a:ext cx="2292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AL/ DALS is about being in service to the learner and doing what it takes to ensure the learners’ success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AL/DALS is about teaching people how to think, how to learn, how to create and how to utilize their best potential.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Thank you very much for your patience.</a:t>
            </a: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2743200"/>
            <a:ext cx="3084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What is Accelerated Learning (AL) Systems ?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It is a research-based technology and an innovative philosophy that, for every style of learning and behavior, uses learners’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holistic natural talents</a:t>
            </a: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 to provide them the highest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learning</a:t>
            </a: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retention</a:t>
            </a: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, and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 performance</a:t>
            </a: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.(p.529)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AL System is intended to ...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recapture the joy in learning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create a stress-free, positive and healthy learning environment 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enhance learners’ self-esteem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be learner-centered 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62720" y="3809880"/>
            <a:ext cx="3224160" cy="2589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55308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3399"/>
                </a:solidFill>
                <a:latin typeface="Comic Sans MS"/>
              </a:rPr>
              <a:t>Learn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DALS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004c2b"/>
                </a:solidFill>
                <a:latin typeface="Arial"/>
              </a:rPr>
              <a:t>Dynamic Accelerated </a:t>
            </a:r>
            <a:br>
              <a:rPr sz="3600"/>
            </a:br>
            <a:r>
              <a:rPr b="0" lang="en-US" sz="3600" spc="-1" strike="noStrike">
                <a:solidFill>
                  <a:srgbClr val="004c2b"/>
                </a:solidFill>
                <a:latin typeface="Arial"/>
              </a:rPr>
              <a:t>Learning System</a:t>
            </a:r>
            <a:endParaRPr b="0" lang="en-US" sz="36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It is the blending of the myriad techniques based on the AL system theory.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The techniques are adjusted continually to accommodate learner styles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The techniques are changing to integrate the latest research achievements 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(p.529)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DALS as a system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It is composed of three main classifications of components: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Mental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Physical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Psychological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It is an open system which exchanges information with the environment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It is open to all related fields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Research basis of AL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Split-brain theory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Regenerative brain theory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Triune brain theory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Multiple intelligence theory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Modality and modeling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Sensory stimulation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Cooperative learning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5880" y="2057400"/>
            <a:ext cx="2133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The Core of AL and DALS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Learner-centeredness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change the attitude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change the word to “learners”, “performers” instead of “students” and “employees”.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Set the stage for learners to experience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Let learners use their individual styles of learning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Roles in AL system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The Master Facilitator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have open mind, commitment and an learner-centered attitude.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The Accelerated Performer, Learner and Facilitator (p.538-540)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10280" y="4780080"/>
            <a:ext cx="2133720" cy="1758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Invisible Communication </a:t>
            </a: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Belief &amp; Expectation has a huge impact on learners’ behavior and achievements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Negative feelings and attitudes from facilitators are impossible to hide, too.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01:31:24Z</dcterms:created>
  <dc:creator>Bei Hua</dc:creator>
  <dc:description/>
  <dc:language>en-US</dc:language>
  <cp:lastModifiedBy>Bei Hua</cp:lastModifiedBy>
  <dcterms:modified xsi:type="dcterms:W3CDTF">1999-09-23T02:39:11Z</dcterms:modified>
  <cp:revision>1</cp:revision>
  <dc:subject/>
  <dc:title>Accelerated Learning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hua@coe.wayne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E:\My Documents\Wayne IT\IT8100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